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Click to move the slide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6C05-3300-4136-A5D1-3C25A5C17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head l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 Predator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y is man sometimes called the “Ultimate Predator”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149-318D-4BA5-A555-FE0EEA33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78E-9EFA-4F0B-8C7D-EF3E372A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FC6-DC17-413F-96AB-6B9382F5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131-439E-4E9C-B8FD-45DBD71A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850F-C5AB-4D17-BF8D-1F081642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C53E-824A-4196-9F53-8C2DADD8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C64D-B587-4D61-B1AE-11FC9D9B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1233-E7E5-44E4-A0D1-169EC2B3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7FA-51FF-4974-A4BB-25A64616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E077-66E5-48B7-814E-8E3BDE4E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8B3D-7940-4E78-B302-2B231AF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31C-CB7B-4D9D-9760-056785B1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2A2A-B8D7-465A-81E2-C0C70ED5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DBAE-4F67-43E7-8EAC-EA5043E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031A-4F1D-421B-BC4D-13CEF144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024E-C1AE-4F74-A946-B5A07C02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6F2A-968C-40B0-B7D5-27C4AE21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6A8-60B5-445E-A9FE-D7BDA660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CD8-A379-44CE-904B-5A8A320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F75-DA62-49CF-8D80-BF094509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36B-1E84-4F31-B211-52B6C332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E7F-5ED5-4EF3-AEAC-18A79ABF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007-8A97-40EE-9D63-7E07379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875C-AC43-4879-BAA6-755BE86D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10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10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625040" indent="-180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1625040" indent="-180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1625040" indent="-18036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582E-31A8-492A-A655-2C31CD2DF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6D2D-CFEE-4FF8-A8BD-BB816409A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3610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722160" algn="ctr">
              <a:spcBef>
                <a:spcPts val="10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083240" algn="ctr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4446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5" marL="144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6" marL="1444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mboldt.edu/~cmc43/ectoparasites.html" TargetMode="External"/><Relationship Id="rId3" Type="http://schemas.openxmlformats.org/officeDocument/2006/relationships/hyperlink" Target="http://www.greywhale.com/photo.htm" TargetMode="External"/><Relationship Id="rId4" Type="http://schemas.openxmlformats.org/officeDocument/2006/relationships/hyperlink" Target="http://www.greywhale.com/photo.htm" TargetMode="External"/><Relationship Id="rId5" Type="http://schemas.openxmlformats.org/officeDocument/2006/relationships/hyperlink" Target="http://www.biosbcc.net/ocean/marinesci/05nekton/GWsouth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Teacher Notes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4440" y="1584360"/>
            <a:ext cx="84582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PT was revised June 9, 200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n introduction to competition, predation and symbiosis to be used prior to Simply Symbiosis, Predator-Prey Activity, and Community Inter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itial section of TEKS Simply Symbiosis has a place for brief notes on the PPT which could be used in regular biology a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Mutu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91120" y="1779120"/>
            <a:ext cx="3929040" cy="13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organisms benef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67840" y="4371480"/>
            <a:ext cx="4496040" cy="17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ers and ins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s and aph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73560" y="3552840"/>
            <a:ext cx="4808520" cy="269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541760" y="6218280"/>
            <a:ext cx="39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Biolog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Prentice H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24000" y="1150920"/>
            <a:ext cx="4335480" cy="288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585600" y="3825720"/>
            <a:ext cx="114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bigfoto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Mutu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433160"/>
            <a:ext cx="35766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c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605560" y="1833480"/>
            <a:ext cx="3278160" cy="17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ae and fungus living toge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47640" y="2176560"/>
            <a:ext cx="4876920" cy="3251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772080" y="3606840"/>
            <a:ext cx="48765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Commens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73160" y="1704960"/>
            <a:ext cx="4668840" cy="37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member of the association benefits and the other is neither helped nor harm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773520" y="5076720"/>
            <a:ext cx="3873600" cy="13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nish mo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36400" y="1224000"/>
            <a:ext cx="2848320" cy="536580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Commens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640" y="1790640"/>
            <a:ext cx="3971880" cy="182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les &amp; Barna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and li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924360" y="1846440"/>
            <a:ext cx="4713120" cy="3216240"/>
          </a:xfrm>
          <a:prstGeom prst="rect">
            <a:avLst/>
          </a:prstGeom>
          <a:ln w="19080">
            <a:solidFill>
              <a:srgbClr val="ccec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517680" y="3852720"/>
            <a:ext cx="4282920" cy="246888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Commensal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3400" y="2265120"/>
            <a:ext cx="3159000" cy="16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iphy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r plants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68520" y="2170080"/>
            <a:ext cx="5538960" cy="4008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41760" y="6218280"/>
            <a:ext cx="39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Biology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Prentice H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Parasit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2047680"/>
            <a:ext cx="883908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e benefits; one harm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9080" y="2887560"/>
            <a:ext cx="4518000" cy="29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  tapeworms inside mammals; fleas, ticks, and lice on mam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846680" y="3233880"/>
            <a:ext cx="3757680" cy="2560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734000" y="2816280"/>
            <a:ext cx="41320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Parasit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300400" y="2747520"/>
            <a:ext cx="20016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c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60520" y="1872720"/>
            <a:ext cx="3938760" cy="31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asite obtains all or part of its nutritional needs from the other organism, the h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00680" y="5407200"/>
            <a:ext cx="424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lacklegged Tick: An adult female blacklegged tick, engorged after a blood meal, rests on a lea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265400" y="3573360"/>
            <a:ext cx="3668400" cy="285768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96800" y="2676600"/>
            <a:ext cx="1625760" cy="1387440"/>
          </a:xfrm>
          <a:prstGeom prst="rect">
            <a:avLst/>
          </a:prstGeom>
          <a:ln w="38160">
            <a:solidFill>
              <a:srgbClr val="330099"/>
            </a:solidFill>
            <a:miter/>
          </a:ln>
        </p:spPr>
      </p:pic>
      <p:sp>
        <p:nvSpPr>
          <p:cNvPr id="250" name=""/>
          <p:cNvSpPr/>
          <p:nvPr/>
        </p:nvSpPr>
        <p:spPr>
          <a:xfrm>
            <a:off x="1155600" y="37720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ef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f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Parasitism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62000" y="5146200"/>
            <a:ext cx="380988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stleto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031400" y="5891040"/>
            <a:ext cx="7472520" cy="69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just a “kissing catalys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81280" y="1187280"/>
            <a:ext cx="5619600" cy="372924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94720" cy="47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le barna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opher M. Callahan, Humboldt State Univer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humboldt.edu/~cmc43/ectoparasite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rnacles on Wh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Baja Jones Adventure Travel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4"/>
              </a:rPr>
              <a:t>www.greywhale.com/photo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le l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ny Anderson, Marine Science, Santa Barbara City Colle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5"/>
              </a:rPr>
              <a:t>http://www.biosbcc.net/ocean/marinesci/05nekton/GWsouth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izzly B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eral Management courtesy of GeekPhilosopher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GrizzlyBearFish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4840" y="907920"/>
            <a:ext cx="7983360" cy="22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oper Black"/>
              </a:rPr>
              <a:t>Community Interactions</a:t>
            </a:r>
            <a:endParaRPr b="0" lang="en-US" sz="72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604680"/>
            <a:ext cx="6548400" cy="25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oper Black"/>
              </a:rPr>
              <a:t>Competition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oper Black"/>
              </a:rPr>
              <a:t> Predation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oper Black"/>
              </a:rPr>
              <a:t>Symbiosi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1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rtic H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.S. Fish &amp; Wildlife courtesy of GeekPhilosopher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ArcticHar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yo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Park Service courtesy of GeekPhilosopher.com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Coyo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nd Squirr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.S. Fish &amp; Wildlife courtesy of GeekPhilosopher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GroundSquirel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lc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 of Land Management courtesy of GeekPhilosopher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birdFalc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iger Swallowtail Butterf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 of Land Management courtesy of GeekPhilosopher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butterflyTigerSwallowtail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arner Blue Butterf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.S. Fish &amp; Wildlife courtesy of GeekPhilosopher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butterflyKarnerBlu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k He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 of Land Management courtesy of GeekPhilosopher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ElkHerd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o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A courtesy of GeekPhilosopher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Moos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s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DA courtesy of GeekPhilosopher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geekphilosopher.com/bkg/anBuffalo4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e on Purple Flow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Foto.co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www.bigfoto.com/themes/nature/flowers/flower-bee-8j6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oper Black"/>
              </a:rPr>
              <a:t>Works Cited</a:t>
            </a:r>
            <a:endParaRPr b="0" lang="en-US" sz="48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anish M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.S. Peterson @ USDA-NRCS PLANTS Database, USDA-NRCS. 2005. The PLANTS Database (http://plants.usda.gov). National Plant Data Center, Baton Rouge, LA 70874-4490 US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plants.usda.gov/cgi_bin/topics.cgi?earl=plant_profile.cgi&amp;symbol=TIUS&amp;photoID=tius_001_ahp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lack Legged Tic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tt Bauer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DA courtesy of Junglewalk.com.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www.junglewalk.com/frames.a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stleto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Forest Serv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ttp://www.fs.fed.us/r6/rogue/swofidsc/dmistletoe/dmistletoe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288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Competi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4960" y="151452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ms of the same or different species attempt to use the same ecological resource (food, water, space) in the same place at the same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24680" y="3044880"/>
            <a:ext cx="3019320" cy="1896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495680" y="1295280"/>
            <a:ext cx="2708280" cy="2167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265640" y="4253040"/>
            <a:ext cx="2855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Competi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2120" y="4622760"/>
            <a:ext cx="5127840" cy="18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different butterfly species feeding on the same flo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052880" y="1792440"/>
            <a:ext cx="4835520" cy="12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organisms want the same 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77040" y="3251160"/>
            <a:ext cx="3436920" cy="297360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31920" y="1374840"/>
            <a:ext cx="3730320" cy="3073320"/>
          </a:xfrm>
          <a:prstGeom prst="rect">
            <a:avLst/>
          </a:prstGeom>
          <a:ln w="9360">
            <a:solidFill>
              <a:srgbClr val="33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Preda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834920"/>
            <a:ext cx="5057640" cy="140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action in which one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86200" y="4417920"/>
            <a:ext cx="3727440" cy="19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tures and feeds on another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78320" y="1496880"/>
            <a:ext cx="3576600" cy="2862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05720" y="13730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da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50760" y="3247920"/>
            <a:ext cx="2576520" cy="329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58960" y="58244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17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Preda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6120" y="2604600"/>
            <a:ext cx="2597040" cy="281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izzlies prey upon salm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357720" y="1917720"/>
            <a:ext cx="5357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8120" y="1238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Predation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400" y="3287880"/>
            <a:ext cx="4771800" cy="67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bbit and Coy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44560" y="3941640"/>
            <a:ext cx="6945480" cy="2619360"/>
            <a:chOff x="844560" y="3941640"/>
            <a:chExt cx="6945480" cy="2619360"/>
          </a:xfrm>
        </p:grpSpPr>
        <p:sp>
          <p:nvSpPr>
            <p:cNvPr id="116" name=""/>
            <p:cNvSpPr/>
            <p:nvPr/>
          </p:nvSpPr>
          <p:spPr>
            <a:xfrm>
              <a:off x="844560" y="3941640"/>
              <a:ext cx="6945480" cy="2619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4960" y="4127040"/>
              <a:ext cx="6537960" cy="2328480"/>
            </a:xfrm>
            <a:custGeom>
              <a:avLst/>
              <a:gdLst/>
              <a:ahLst/>
              <a:rect l="l" t="t" r="r" b="b"/>
              <a:pathLst>
                <a:path w="6080" h="2010">
                  <a:moveTo>
                    <a:pt x="0" y="1730"/>
                  </a:moveTo>
                  <a:lnTo>
                    <a:pt x="160" y="1870"/>
                  </a:lnTo>
                  <a:lnTo>
                    <a:pt x="415" y="1234"/>
                  </a:lnTo>
                  <a:lnTo>
                    <a:pt x="475" y="1009"/>
                  </a:lnTo>
                  <a:lnTo>
                    <a:pt x="595" y="1054"/>
                  </a:lnTo>
                  <a:lnTo>
                    <a:pt x="690" y="840"/>
                  </a:lnTo>
                  <a:lnTo>
                    <a:pt x="810" y="1840"/>
                  </a:lnTo>
                  <a:lnTo>
                    <a:pt x="1020" y="1660"/>
                  </a:lnTo>
                  <a:lnTo>
                    <a:pt x="1120" y="1850"/>
                  </a:lnTo>
                  <a:lnTo>
                    <a:pt x="1190" y="0"/>
                  </a:lnTo>
                  <a:lnTo>
                    <a:pt x="1250" y="90"/>
                  </a:lnTo>
                  <a:lnTo>
                    <a:pt x="1340" y="1230"/>
                  </a:lnTo>
                  <a:lnTo>
                    <a:pt x="1540" y="1970"/>
                  </a:lnTo>
                  <a:lnTo>
                    <a:pt x="1700" y="1830"/>
                  </a:lnTo>
                  <a:lnTo>
                    <a:pt x="1750" y="1140"/>
                  </a:lnTo>
                  <a:lnTo>
                    <a:pt x="1800" y="1390"/>
                  </a:lnTo>
                  <a:lnTo>
                    <a:pt x="1880" y="1390"/>
                  </a:lnTo>
                  <a:lnTo>
                    <a:pt x="2010" y="750"/>
                  </a:lnTo>
                  <a:lnTo>
                    <a:pt x="2220" y="1110"/>
                  </a:lnTo>
                  <a:lnTo>
                    <a:pt x="2320" y="1830"/>
                  </a:lnTo>
                  <a:lnTo>
                    <a:pt x="2400" y="1840"/>
                  </a:lnTo>
                  <a:lnTo>
                    <a:pt x="2640" y="1340"/>
                  </a:lnTo>
                  <a:lnTo>
                    <a:pt x="2660" y="250"/>
                  </a:lnTo>
                  <a:lnTo>
                    <a:pt x="2720" y="240"/>
                  </a:lnTo>
                  <a:lnTo>
                    <a:pt x="2960" y="1880"/>
                  </a:lnTo>
                  <a:lnTo>
                    <a:pt x="3130" y="1290"/>
                  </a:lnTo>
                  <a:lnTo>
                    <a:pt x="3210" y="1280"/>
                  </a:lnTo>
                  <a:lnTo>
                    <a:pt x="3370" y="860"/>
                  </a:lnTo>
                  <a:lnTo>
                    <a:pt x="3480" y="1810"/>
                  </a:lnTo>
                  <a:lnTo>
                    <a:pt x="3620" y="2010"/>
                  </a:lnTo>
                  <a:lnTo>
                    <a:pt x="3860" y="1810"/>
                  </a:lnTo>
                  <a:lnTo>
                    <a:pt x="3930" y="1130"/>
                  </a:lnTo>
                  <a:lnTo>
                    <a:pt x="4120" y="1710"/>
                  </a:lnTo>
                  <a:lnTo>
                    <a:pt x="4180" y="1770"/>
                  </a:lnTo>
                  <a:lnTo>
                    <a:pt x="4290" y="1720"/>
                  </a:lnTo>
                  <a:lnTo>
                    <a:pt x="4380" y="1290"/>
                  </a:lnTo>
                  <a:lnTo>
                    <a:pt x="4510" y="1070"/>
                  </a:lnTo>
                  <a:lnTo>
                    <a:pt x="4760" y="1830"/>
                  </a:lnTo>
                  <a:lnTo>
                    <a:pt x="4840" y="1930"/>
                  </a:lnTo>
                  <a:lnTo>
                    <a:pt x="4940" y="1940"/>
                  </a:lnTo>
                  <a:lnTo>
                    <a:pt x="5030" y="1860"/>
                  </a:lnTo>
                  <a:lnTo>
                    <a:pt x="5110" y="1230"/>
                  </a:lnTo>
                  <a:lnTo>
                    <a:pt x="5240" y="1000"/>
                  </a:lnTo>
                  <a:lnTo>
                    <a:pt x="5360" y="1100"/>
                  </a:lnTo>
                  <a:lnTo>
                    <a:pt x="5360" y="1810"/>
                  </a:lnTo>
                  <a:lnTo>
                    <a:pt x="5430" y="1940"/>
                  </a:lnTo>
                  <a:lnTo>
                    <a:pt x="5560" y="1980"/>
                  </a:lnTo>
                  <a:lnTo>
                    <a:pt x="5710" y="1940"/>
                  </a:lnTo>
                  <a:lnTo>
                    <a:pt x="5790" y="1800"/>
                  </a:lnTo>
                  <a:lnTo>
                    <a:pt x="5870" y="1010"/>
                  </a:lnTo>
                  <a:lnTo>
                    <a:pt x="5940" y="860"/>
                  </a:lnTo>
                  <a:lnTo>
                    <a:pt x="6030" y="980"/>
                  </a:lnTo>
                  <a:lnTo>
                    <a:pt x="6080" y="1750"/>
                  </a:ln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0280" y="4372560"/>
              <a:ext cx="675360" cy="0"/>
            </a:xfrm>
            <a:prstGeom prst="line">
              <a:avLst/>
            </a:prstGeom>
            <a:ln w="572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6720" y="4203720"/>
              <a:ext cx="106920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99"/>
                  </a:solidFill>
                  <a:latin typeface="Comic Sans MS"/>
                </a:rPr>
                <a:t>rabb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99"/>
                  </a:solidFill>
                  <a:latin typeface="Comic Sans MS"/>
                </a:rPr>
                <a:t>coyo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42840" y="4931280"/>
              <a:ext cx="6791040" cy="1546920"/>
            </a:xfrm>
            <a:custGeom>
              <a:avLst/>
              <a:gdLst/>
              <a:ahLst/>
              <a:rect l="l" t="t" r="r" b="b"/>
              <a:pathLst>
                <a:path w="6315" h="1335">
                  <a:moveTo>
                    <a:pt x="0" y="916"/>
                  </a:moveTo>
                  <a:lnTo>
                    <a:pt x="180" y="666"/>
                  </a:lnTo>
                  <a:lnTo>
                    <a:pt x="320" y="1156"/>
                  </a:lnTo>
                  <a:lnTo>
                    <a:pt x="470" y="1246"/>
                  </a:lnTo>
                  <a:lnTo>
                    <a:pt x="610" y="1086"/>
                  </a:lnTo>
                  <a:lnTo>
                    <a:pt x="670" y="826"/>
                  </a:lnTo>
                  <a:lnTo>
                    <a:pt x="770" y="826"/>
                  </a:lnTo>
                  <a:lnTo>
                    <a:pt x="1080" y="1246"/>
                  </a:lnTo>
                  <a:lnTo>
                    <a:pt x="1260" y="1216"/>
                  </a:lnTo>
                  <a:lnTo>
                    <a:pt x="1395" y="495"/>
                  </a:lnTo>
                  <a:lnTo>
                    <a:pt x="1515" y="0"/>
                  </a:lnTo>
                  <a:lnTo>
                    <a:pt x="1575" y="90"/>
                  </a:lnTo>
                  <a:lnTo>
                    <a:pt x="1620" y="525"/>
                  </a:lnTo>
                  <a:lnTo>
                    <a:pt x="1680" y="1035"/>
                  </a:lnTo>
                  <a:lnTo>
                    <a:pt x="1870" y="1246"/>
                  </a:lnTo>
                  <a:lnTo>
                    <a:pt x="1965" y="795"/>
                  </a:lnTo>
                  <a:lnTo>
                    <a:pt x="2040" y="886"/>
                  </a:lnTo>
                  <a:lnTo>
                    <a:pt x="2190" y="570"/>
                  </a:lnTo>
                  <a:lnTo>
                    <a:pt x="2370" y="735"/>
                  </a:lnTo>
                  <a:lnTo>
                    <a:pt x="2370" y="1196"/>
                  </a:lnTo>
                  <a:lnTo>
                    <a:pt x="2450" y="1246"/>
                  </a:lnTo>
                  <a:lnTo>
                    <a:pt x="2580" y="1186"/>
                  </a:lnTo>
                  <a:lnTo>
                    <a:pt x="2700" y="855"/>
                  </a:lnTo>
                  <a:lnTo>
                    <a:pt x="2745" y="705"/>
                  </a:lnTo>
                  <a:lnTo>
                    <a:pt x="2820" y="375"/>
                  </a:lnTo>
                  <a:lnTo>
                    <a:pt x="2910" y="240"/>
                  </a:lnTo>
                  <a:lnTo>
                    <a:pt x="2970" y="795"/>
                  </a:lnTo>
                  <a:lnTo>
                    <a:pt x="3160" y="1136"/>
                  </a:lnTo>
                  <a:lnTo>
                    <a:pt x="3420" y="696"/>
                  </a:lnTo>
                  <a:lnTo>
                    <a:pt x="3470" y="726"/>
                  </a:lnTo>
                  <a:lnTo>
                    <a:pt x="3500" y="986"/>
                  </a:lnTo>
                  <a:lnTo>
                    <a:pt x="3690" y="1266"/>
                  </a:lnTo>
                  <a:lnTo>
                    <a:pt x="3750" y="1166"/>
                  </a:lnTo>
                  <a:lnTo>
                    <a:pt x="3770" y="1226"/>
                  </a:lnTo>
                  <a:lnTo>
                    <a:pt x="3890" y="1086"/>
                  </a:lnTo>
                  <a:lnTo>
                    <a:pt x="4020" y="645"/>
                  </a:lnTo>
                  <a:lnTo>
                    <a:pt x="4100" y="446"/>
                  </a:lnTo>
                  <a:lnTo>
                    <a:pt x="4140" y="686"/>
                  </a:lnTo>
                  <a:lnTo>
                    <a:pt x="4170" y="1236"/>
                  </a:lnTo>
                  <a:lnTo>
                    <a:pt x="4335" y="1335"/>
                  </a:lnTo>
                  <a:lnTo>
                    <a:pt x="4530" y="1050"/>
                  </a:lnTo>
                  <a:lnTo>
                    <a:pt x="4575" y="900"/>
                  </a:lnTo>
                  <a:lnTo>
                    <a:pt x="4755" y="825"/>
                  </a:lnTo>
                  <a:lnTo>
                    <a:pt x="4980" y="1226"/>
                  </a:lnTo>
                  <a:lnTo>
                    <a:pt x="5080" y="1276"/>
                  </a:lnTo>
                  <a:lnTo>
                    <a:pt x="5380" y="656"/>
                  </a:lnTo>
                  <a:lnTo>
                    <a:pt x="5540" y="516"/>
                  </a:lnTo>
                  <a:lnTo>
                    <a:pt x="5740" y="1186"/>
                  </a:lnTo>
                  <a:lnTo>
                    <a:pt x="5920" y="1186"/>
                  </a:lnTo>
                  <a:lnTo>
                    <a:pt x="5950" y="996"/>
                  </a:lnTo>
                  <a:lnTo>
                    <a:pt x="6195" y="510"/>
                  </a:lnTo>
                  <a:lnTo>
                    <a:pt x="6315" y="60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31560" y="4670280"/>
              <a:ext cx="675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0000" y="1125360"/>
            <a:ext cx="2712960" cy="217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359240" y="1403280"/>
            <a:ext cx="37306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3480" y="1238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oper Black"/>
              </a:rPr>
              <a:t>Ultimate Predator?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0320" y="1185840"/>
            <a:ext cx="499284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is man sometimes called the “Ultimate Predator”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649600" y="1117440"/>
            <a:ext cx="6414840" cy="5435640"/>
            <a:chOff x="2649600" y="1117440"/>
            <a:chExt cx="6414840" cy="5435640"/>
          </a:xfrm>
        </p:grpSpPr>
        <p:sp>
          <p:nvSpPr>
            <p:cNvPr id="127" name=""/>
            <p:cNvSpPr/>
            <p:nvPr/>
          </p:nvSpPr>
          <p:spPr>
            <a:xfrm rot="16482600">
              <a:off x="2452320" y="3760560"/>
              <a:ext cx="1909800" cy="1363320"/>
            </a:xfrm>
            <a:prstGeom prst="cloudCallout">
              <a:avLst>
                <a:gd name="adj1" fmla="val -52453"/>
                <a:gd name="adj2" fmla="val 68393"/>
              </a:avLst>
            </a:prstGeom>
            <a:solidFill>
              <a:srgbClr val="e9f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52360" y="1127160"/>
              <a:ext cx="6059520" cy="5423040"/>
            </a:xfrm>
            <a:prstGeom prst="triangle">
              <a:avLst>
                <a:gd name="adj" fmla="val 50000"/>
              </a:avLst>
            </a:prstGeom>
            <a:solidFill>
              <a:srgbClr val="e9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900160" y="3562920"/>
              <a:ext cx="1085760" cy="1735560"/>
              <a:chOff x="2900160" y="3562920"/>
              <a:chExt cx="1085760" cy="17355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900160" y="3562920"/>
                <a:ext cx="1085760" cy="1042920"/>
                <a:chOff x="2900160" y="3562920"/>
                <a:chExt cx="1085760" cy="10429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2900160" y="3562920"/>
                  <a:ext cx="1085760" cy="872640"/>
                  <a:chOff x="2900160" y="3562920"/>
                  <a:chExt cx="1085760" cy="87264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rot="17731800">
                    <a:off x="3489840" y="3837600"/>
                    <a:ext cx="275760" cy="66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832">
                        <a:moveTo>
                          <a:pt x="88" y="30"/>
                        </a:moveTo>
                        <a:cubicBezTo>
                          <a:pt x="69" y="55"/>
                          <a:pt x="62" y="109"/>
                          <a:pt x="52" y="162"/>
                        </a:cubicBezTo>
                        <a:cubicBezTo>
                          <a:pt x="42" y="215"/>
                          <a:pt x="31" y="294"/>
                          <a:pt x="25" y="351"/>
                        </a:cubicBezTo>
                        <a:cubicBezTo>
                          <a:pt x="19" y="408"/>
                          <a:pt x="19" y="447"/>
                          <a:pt x="16" y="504"/>
                        </a:cubicBezTo>
                        <a:cubicBezTo>
                          <a:pt x="13" y="561"/>
                          <a:pt x="0" y="642"/>
                          <a:pt x="7" y="693"/>
                        </a:cubicBezTo>
                        <a:cubicBezTo>
                          <a:pt x="14" y="744"/>
                          <a:pt x="25" y="794"/>
                          <a:pt x="61" y="813"/>
                        </a:cubicBezTo>
                        <a:cubicBezTo>
                          <a:pt x="97" y="832"/>
                          <a:pt x="181" y="817"/>
                          <a:pt x="226" y="807"/>
                        </a:cubicBezTo>
                        <a:cubicBezTo>
                          <a:pt x="271" y="797"/>
                          <a:pt x="321" y="779"/>
                          <a:pt x="334" y="753"/>
                        </a:cubicBezTo>
                        <a:cubicBezTo>
                          <a:pt x="347" y="727"/>
                          <a:pt x="308" y="705"/>
                          <a:pt x="301" y="651"/>
                        </a:cubicBezTo>
                        <a:cubicBezTo>
                          <a:pt x="294" y="597"/>
                          <a:pt x="292" y="494"/>
                          <a:pt x="289" y="429"/>
                        </a:cubicBezTo>
                        <a:cubicBezTo>
                          <a:pt x="286" y="364"/>
                          <a:pt x="283" y="309"/>
                          <a:pt x="283" y="258"/>
                        </a:cubicBezTo>
                        <a:cubicBezTo>
                          <a:pt x="283" y="207"/>
                          <a:pt x="287" y="160"/>
                          <a:pt x="286" y="120"/>
                        </a:cubicBezTo>
                        <a:cubicBezTo>
                          <a:pt x="285" y="80"/>
                          <a:pt x="297" y="36"/>
                          <a:pt x="277" y="18"/>
                        </a:cubicBezTo>
                        <a:cubicBezTo>
                          <a:pt x="257" y="0"/>
                          <a:pt x="196" y="9"/>
                          <a:pt x="166" y="9"/>
                        </a:cubicBezTo>
                        <a:cubicBezTo>
                          <a:pt x="136" y="9"/>
                          <a:pt x="107" y="5"/>
                          <a:pt x="88" y="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ae19"/>
                      </a:gs>
                      <a:gs pos="100000">
                        <a:srgbClr val="ae8000"/>
                      </a:gs>
                    </a:gsLst>
                    <a:lin ang="5400000"/>
                  </a:gradFill>
                  <a:ln w="9360">
                    <a:solidFill>
                      <a:srgbClr val="d7ae1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7731800">
                    <a:off x="2921040" y="3723120"/>
                    <a:ext cx="639720" cy="450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5" h="566">
                        <a:moveTo>
                          <a:pt x="382" y="0"/>
                        </a:moveTo>
                        <a:cubicBezTo>
                          <a:pt x="367" y="3"/>
                          <a:pt x="332" y="10"/>
                          <a:pt x="301" y="21"/>
                        </a:cubicBezTo>
                        <a:cubicBezTo>
                          <a:pt x="270" y="32"/>
                          <a:pt x="235" y="35"/>
                          <a:pt x="199" y="66"/>
                        </a:cubicBezTo>
                        <a:cubicBezTo>
                          <a:pt x="163" y="97"/>
                          <a:pt x="109" y="167"/>
                          <a:pt x="85" y="207"/>
                        </a:cubicBezTo>
                        <a:cubicBezTo>
                          <a:pt x="61" y="247"/>
                          <a:pt x="68" y="282"/>
                          <a:pt x="55" y="309"/>
                        </a:cubicBezTo>
                        <a:cubicBezTo>
                          <a:pt x="42" y="336"/>
                          <a:pt x="12" y="345"/>
                          <a:pt x="6" y="367"/>
                        </a:cubicBezTo>
                        <a:cubicBezTo>
                          <a:pt x="0" y="389"/>
                          <a:pt x="1" y="429"/>
                          <a:pt x="16" y="444"/>
                        </a:cubicBezTo>
                        <a:cubicBezTo>
                          <a:pt x="31" y="459"/>
                          <a:pt x="75" y="463"/>
                          <a:pt x="94" y="459"/>
                        </a:cubicBezTo>
                        <a:cubicBezTo>
                          <a:pt x="113" y="455"/>
                          <a:pt x="115" y="416"/>
                          <a:pt x="130" y="419"/>
                        </a:cubicBezTo>
                        <a:cubicBezTo>
                          <a:pt x="145" y="422"/>
                          <a:pt x="150" y="458"/>
                          <a:pt x="186" y="479"/>
                        </a:cubicBezTo>
                        <a:cubicBezTo>
                          <a:pt x="222" y="500"/>
                          <a:pt x="289" y="535"/>
                          <a:pt x="349" y="543"/>
                        </a:cubicBezTo>
                        <a:cubicBezTo>
                          <a:pt x="409" y="551"/>
                          <a:pt x="493" y="534"/>
                          <a:pt x="544" y="525"/>
                        </a:cubicBezTo>
                        <a:cubicBezTo>
                          <a:pt x="595" y="516"/>
                          <a:pt x="631" y="482"/>
                          <a:pt x="654" y="487"/>
                        </a:cubicBezTo>
                        <a:cubicBezTo>
                          <a:pt x="677" y="492"/>
                          <a:pt x="662" y="544"/>
                          <a:pt x="682" y="555"/>
                        </a:cubicBezTo>
                        <a:cubicBezTo>
                          <a:pt x="702" y="566"/>
                          <a:pt x="755" y="565"/>
                          <a:pt x="775" y="552"/>
                        </a:cubicBezTo>
                        <a:cubicBezTo>
                          <a:pt x="795" y="539"/>
                          <a:pt x="805" y="510"/>
                          <a:pt x="802" y="477"/>
                        </a:cubicBezTo>
                        <a:cubicBezTo>
                          <a:pt x="799" y="444"/>
                          <a:pt x="773" y="404"/>
                          <a:pt x="758" y="351"/>
                        </a:cubicBezTo>
                        <a:cubicBezTo>
                          <a:pt x="743" y="298"/>
                          <a:pt x="733" y="206"/>
                          <a:pt x="710" y="159"/>
                        </a:cubicBezTo>
                        <a:cubicBezTo>
                          <a:pt x="687" y="112"/>
                          <a:pt x="662" y="92"/>
                          <a:pt x="622" y="66"/>
                        </a:cubicBezTo>
                        <a:cubicBezTo>
                          <a:pt x="582" y="40"/>
                          <a:pt x="501" y="16"/>
                          <a:pt x="469" y="3"/>
                        </a:cubicBezTo>
                      </a:path>
                    </a:pathLst>
                  </a:custGeom>
                  <a:solidFill>
                    <a:srgbClr val="ae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3239640" y="4242240"/>
                  <a:ext cx="542520" cy="363600"/>
                  <a:chOff x="3239640" y="4242240"/>
                  <a:chExt cx="542520" cy="3636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16989000">
                    <a:off x="3536280" y="4293360"/>
                    <a:ext cx="138240" cy="3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47" h="832">
                        <a:moveTo>
                          <a:pt x="88" y="30"/>
                        </a:moveTo>
                        <a:cubicBezTo>
                          <a:pt x="69" y="55"/>
                          <a:pt x="62" y="109"/>
                          <a:pt x="52" y="162"/>
                        </a:cubicBezTo>
                        <a:cubicBezTo>
                          <a:pt x="42" y="215"/>
                          <a:pt x="31" y="294"/>
                          <a:pt x="25" y="351"/>
                        </a:cubicBezTo>
                        <a:cubicBezTo>
                          <a:pt x="19" y="408"/>
                          <a:pt x="19" y="447"/>
                          <a:pt x="16" y="504"/>
                        </a:cubicBezTo>
                        <a:cubicBezTo>
                          <a:pt x="13" y="561"/>
                          <a:pt x="0" y="642"/>
                          <a:pt x="7" y="693"/>
                        </a:cubicBezTo>
                        <a:cubicBezTo>
                          <a:pt x="14" y="744"/>
                          <a:pt x="25" y="794"/>
                          <a:pt x="61" y="813"/>
                        </a:cubicBezTo>
                        <a:cubicBezTo>
                          <a:pt x="97" y="832"/>
                          <a:pt x="181" y="817"/>
                          <a:pt x="226" y="807"/>
                        </a:cubicBezTo>
                        <a:cubicBezTo>
                          <a:pt x="271" y="797"/>
                          <a:pt x="321" y="779"/>
                          <a:pt x="334" y="753"/>
                        </a:cubicBezTo>
                        <a:cubicBezTo>
                          <a:pt x="347" y="727"/>
                          <a:pt x="308" y="705"/>
                          <a:pt x="301" y="651"/>
                        </a:cubicBezTo>
                        <a:cubicBezTo>
                          <a:pt x="294" y="597"/>
                          <a:pt x="292" y="494"/>
                          <a:pt x="289" y="429"/>
                        </a:cubicBezTo>
                        <a:cubicBezTo>
                          <a:pt x="286" y="364"/>
                          <a:pt x="283" y="309"/>
                          <a:pt x="283" y="258"/>
                        </a:cubicBezTo>
                        <a:cubicBezTo>
                          <a:pt x="283" y="207"/>
                          <a:pt x="287" y="160"/>
                          <a:pt x="286" y="120"/>
                        </a:cubicBezTo>
                        <a:cubicBezTo>
                          <a:pt x="285" y="80"/>
                          <a:pt x="297" y="36"/>
                          <a:pt x="277" y="18"/>
                        </a:cubicBezTo>
                        <a:cubicBezTo>
                          <a:pt x="257" y="0"/>
                          <a:pt x="196" y="9"/>
                          <a:pt x="166" y="9"/>
                        </a:cubicBezTo>
                        <a:cubicBezTo>
                          <a:pt x="136" y="9"/>
                          <a:pt x="107" y="5"/>
                          <a:pt x="88" y="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ae19"/>
                      </a:gs>
                      <a:gs pos="100000">
                        <a:srgbClr val="ae8000"/>
                      </a:gs>
                    </a:gsLst>
                    <a:lin ang="5400000"/>
                  </a:gradFill>
                  <a:ln w="9360">
                    <a:solidFill>
                      <a:srgbClr val="d7ae1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16989000">
                    <a:off x="3224520" y="4311360"/>
                    <a:ext cx="32076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5" h="566">
                        <a:moveTo>
                          <a:pt x="382" y="0"/>
                        </a:moveTo>
                        <a:cubicBezTo>
                          <a:pt x="367" y="3"/>
                          <a:pt x="332" y="10"/>
                          <a:pt x="301" y="21"/>
                        </a:cubicBezTo>
                        <a:cubicBezTo>
                          <a:pt x="270" y="32"/>
                          <a:pt x="235" y="35"/>
                          <a:pt x="199" y="66"/>
                        </a:cubicBezTo>
                        <a:cubicBezTo>
                          <a:pt x="163" y="97"/>
                          <a:pt x="109" y="167"/>
                          <a:pt x="85" y="207"/>
                        </a:cubicBezTo>
                        <a:cubicBezTo>
                          <a:pt x="61" y="247"/>
                          <a:pt x="68" y="282"/>
                          <a:pt x="55" y="309"/>
                        </a:cubicBezTo>
                        <a:cubicBezTo>
                          <a:pt x="42" y="336"/>
                          <a:pt x="12" y="345"/>
                          <a:pt x="6" y="367"/>
                        </a:cubicBezTo>
                        <a:cubicBezTo>
                          <a:pt x="0" y="389"/>
                          <a:pt x="1" y="429"/>
                          <a:pt x="16" y="444"/>
                        </a:cubicBezTo>
                        <a:cubicBezTo>
                          <a:pt x="31" y="459"/>
                          <a:pt x="75" y="463"/>
                          <a:pt x="94" y="459"/>
                        </a:cubicBezTo>
                        <a:cubicBezTo>
                          <a:pt x="113" y="455"/>
                          <a:pt x="115" y="416"/>
                          <a:pt x="130" y="419"/>
                        </a:cubicBezTo>
                        <a:cubicBezTo>
                          <a:pt x="145" y="422"/>
                          <a:pt x="150" y="458"/>
                          <a:pt x="186" y="479"/>
                        </a:cubicBezTo>
                        <a:cubicBezTo>
                          <a:pt x="222" y="500"/>
                          <a:pt x="289" y="535"/>
                          <a:pt x="349" y="543"/>
                        </a:cubicBezTo>
                        <a:cubicBezTo>
                          <a:pt x="409" y="551"/>
                          <a:pt x="493" y="534"/>
                          <a:pt x="544" y="525"/>
                        </a:cubicBezTo>
                        <a:cubicBezTo>
                          <a:pt x="595" y="516"/>
                          <a:pt x="631" y="482"/>
                          <a:pt x="654" y="487"/>
                        </a:cubicBezTo>
                        <a:cubicBezTo>
                          <a:pt x="677" y="492"/>
                          <a:pt x="662" y="544"/>
                          <a:pt x="682" y="555"/>
                        </a:cubicBezTo>
                        <a:cubicBezTo>
                          <a:pt x="702" y="566"/>
                          <a:pt x="755" y="565"/>
                          <a:pt x="775" y="552"/>
                        </a:cubicBezTo>
                        <a:cubicBezTo>
                          <a:pt x="795" y="539"/>
                          <a:pt x="805" y="510"/>
                          <a:pt x="802" y="477"/>
                        </a:cubicBezTo>
                        <a:cubicBezTo>
                          <a:pt x="799" y="444"/>
                          <a:pt x="773" y="404"/>
                          <a:pt x="758" y="351"/>
                        </a:cubicBezTo>
                        <a:cubicBezTo>
                          <a:pt x="743" y="298"/>
                          <a:pt x="733" y="206"/>
                          <a:pt x="710" y="159"/>
                        </a:cubicBezTo>
                        <a:cubicBezTo>
                          <a:pt x="687" y="112"/>
                          <a:pt x="662" y="92"/>
                          <a:pt x="622" y="66"/>
                        </a:cubicBezTo>
                        <a:cubicBezTo>
                          <a:pt x="582" y="40"/>
                          <a:pt x="501" y="16"/>
                          <a:pt x="469" y="3"/>
                        </a:cubicBezTo>
                      </a:path>
                    </a:pathLst>
                  </a:custGeom>
                  <a:solidFill>
                    <a:srgbClr val="ae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7" name=""/>
              <p:cNvGrpSpPr/>
              <p:nvPr/>
            </p:nvGrpSpPr>
            <p:grpSpPr>
              <a:xfrm>
                <a:off x="3173400" y="4752720"/>
                <a:ext cx="452160" cy="545760"/>
                <a:chOff x="3173400" y="4752720"/>
                <a:chExt cx="452160" cy="545760"/>
              </a:xfrm>
            </p:grpSpPr>
            <p:sp>
              <p:nvSpPr>
                <p:cNvPr id="138" name=""/>
                <p:cNvSpPr/>
                <p:nvPr/>
              </p:nvSpPr>
              <p:spPr>
                <a:xfrm rot="20153400">
                  <a:off x="3176280" y="5100480"/>
                  <a:ext cx="274680" cy="7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7731800">
                  <a:off x="3266280" y="5122440"/>
                  <a:ext cx="2746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7731800">
                  <a:off x="3393720" y="4856040"/>
                  <a:ext cx="2746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6725000">
                  <a:off x="3430800" y="5052960"/>
                  <a:ext cx="274680" cy="7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78200">
                  <a:off x="3255120" y="4858200"/>
                  <a:ext cx="274680" cy="72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996633"/>
                </a:soli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631680" y="2853000"/>
              <a:ext cx="4925520" cy="3642840"/>
              <a:chOff x="3631680" y="2853000"/>
              <a:chExt cx="4925520" cy="36428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4392000" y="4457520"/>
                <a:ext cx="3405240" cy="955440"/>
                <a:chOff x="4392000" y="4457520"/>
                <a:chExt cx="3405240" cy="95544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4392000" y="4457520"/>
                  <a:ext cx="1063440" cy="928440"/>
                  <a:chOff x="4392000" y="4457520"/>
                  <a:chExt cx="1063440" cy="928440"/>
                </a:xfrm>
              </p:grpSpPr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4392000" y="4457520"/>
                    <a:ext cx="1063440" cy="928440"/>
                    <a:chOff x="4392000" y="4457520"/>
                    <a:chExt cx="1063440" cy="92844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4392000" y="4457520"/>
                      <a:ext cx="739800" cy="89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1" h="838">
                          <a:moveTo>
                            <a:pt x="318" y="177"/>
                          </a:moveTo>
                          <a:cubicBezTo>
                            <a:pt x="324" y="168"/>
                            <a:pt x="397" y="115"/>
                            <a:pt x="408" y="89"/>
                          </a:cubicBezTo>
                          <a:cubicBezTo>
                            <a:pt x="419" y="63"/>
                            <a:pt x="395" y="34"/>
                            <a:pt x="382" y="19"/>
                          </a:cubicBezTo>
                          <a:cubicBezTo>
                            <a:pt x="369" y="4"/>
                            <a:pt x="347" y="2"/>
                            <a:pt x="330" y="1"/>
                          </a:cubicBezTo>
                          <a:cubicBezTo>
                            <a:pt x="313" y="0"/>
                            <a:pt x="297" y="5"/>
                            <a:pt x="282" y="15"/>
                          </a:cubicBezTo>
                          <a:cubicBezTo>
                            <a:pt x="267" y="25"/>
                            <a:pt x="250" y="39"/>
                            <a:pt x="242" y="59"/>
                          </a:cubicBezTo>
                          <a:cubicBezTo>
                            <a:pt x="234" y="79"/>
                            <a:pt x="234" y="117"/>
                            <a:pt x="232" y="137"/>
                          </a:cubicBezTo>
                          <a:cubicBezTo>
                            <a:pt x="230" y="157"/>
                            <a:pt x="238" y="169"/>
                            <a:pt x="232" y="180"/>
                          </a:cubicBezTo>
                          <a:cubicBezTo>
                            <a:pt x="226" y="191"/>
                            <a:pt x="216" y="198"/>
                            <a:pt x="194" y="204"/>
                          </a:cubicBezTo>
                          <a:cubicBezTo>
                            <a:pt x="172" y="210"/>
                            <a:pt x="129" y="206"/>
                            <a:pt x="98" y="214"/>
                          </a:cubicBezTo>
                          <a:cubicBezTo>
                            <a:pt x="67" y="222"/>
                            <a:pt x="12" y="241"/>
                            <a:pt x="6" y="252"/>
                          </a:cubicBezTo>
                          <a:cubicBezTo>
                            <a:pt x="0" y="263"/>
                            <a:pt x="45" y="270"/>
                            <a:pt x="64" y="283"/>
                          </a:cubicBezTo>
                          <a:cubicBezTo>
                            <a:pt x="83" y="296"/>
                            <a:pt x="101" y="314"/>
                            <a:pt x="120" y="333"/>
                          </a:cubicBezTo>
                          <a:cubicBezTo>
                            <a:pt x="139" y="352"/>
                            <a:pt x="167" y="379"/>
                            <a:pt x="180" y="399"/>
                          </a:cubicBezTo>
                          <a:cubicBezTo>
                            <a:pt x="193" y="419"/>
                            <a:pt x="203" y="441"/>
                            <a:pt x="196" y="453"/>
                          </a:cubicBezTo>
                          <a:cubicBezTo>
                            <a:pt x="189" y="465"/>
                            <a:pt x="154" y="456"/>
                            <a:pt x="138" y="469"/>
                          </a:cubicBezTo>
                          <a:cubicBezTo>
                            <a:pt x="122" y="482"/>
                            <a:pt x="96" y="526"/>
                            <a:pt x="102" y="531"/>
                          </a:cubicBezTo>
                          <a:cubicBezTo>
                            <a:pt x="108" y="536"/>
                            <a:pt x="155" y="504"/>
                            <a:pt x="174" y="502"/>
                          </a:cubicBezTo>
                          <a:cubicBezTo>
                            <a:pt x="193" y="500"/>
                            <a:pt x="210" y="508"/>
                            <a:pt x="218" y="521"/>
                          </a:cubicBezTo>
                          <a:cubicBezTo>
                            <a:pt x="226" y="534"/>
                            <a:pt x="220" y="559"/>
                            <a:pt x="224" y="581"/>
                          </a:cubicBezTo>
                          <a:cubicBezTo>
                            <a:pt x="228" y="603"/>
                            <a:pt x="230" y="629"/>
                            <a:pt x="242" y="655"/>
                          </a:cubicBezTo>
                          <a:cubicBezTo>
                            <a:pt x="254" y="681"/>
                            <a:pt x="281" y="717"/>
                            <a:pt x="298" y="735"/>
                          </a:cubicBezTo>
                          <a:cubicBezTo>
                            <a:pt x="315" y="753"/>
                            <a:pt x="336" y="757"/>
                            <a:pt x="347" y="766"/>
                          </a:cubicBezTo>
                          <a:cubicBezTo>
                            <a:pt x="358" y="775"/>
                            <a:pt x="377" y="789"/>
                            <a:pt x="362" y="790"/>
                          </a:cubicBezTo>
                          <a:cubicBezTo>
                            <a:pt x="347" y="791"/>
                            <a:pt x="280" y="777"/>
                            <a:pt x="256" y="775"/>
                          </a:cubicBezTo>
                          <a:cubicBezTo>
                            <a:pt x="232" y="773"/>
                            <a:pt x="230" y="767"/>
                            <a:pt x="218" y="775"/>
                          </a:cubicBezTo>
                          <a:cubicBezTo>
                            <a:pt x="206" y="783"/>
                            <a:pt x="180" y="813"/>
                            <a:pt x="184" y="823"/>
                          </a:cubicBezTo>
                          <a:cubicBezTo>
                            <a:pt x="188" y="833"/>
                            <a:pt x="218" y="836"/>
                            <a:pt x="244" y="837"/>
                          </a:cubicBezTo>
                          <a:cubicBezTo>
                            <a:pt x="270" y="838"/>
                            <a:pt x="318" y="829"/>
                            <a:pt x="342" y="828"/>
                          </a:cubicBezTo>
                          <a:cubicBezTo>
                            <a:pt x="366" y="827"/>
                            <a:pt x="369" y="829"/>
                            <a:pt x="388" y="829"/>
                          </a:cubicBezTo>
                          <a:cubicBezTo>
                            <a:pt x="407" y="829"/>
                            <a:pt x="435" y="832"/>
                            <a:pt x="456" y="831"/>
                          </a:cubicBezTo>
                          <a:cubicBezTo>
                            <a:pt x="477" y="830"/>
                            <a:pt x="493" y="828"/>
                            <a:pt x="512" y="823"/>
                          </a:cubicBezTo>
                          <a:cubicBezTo>
                            <a:pt x="531" y="818"/>
                            <a:pt x="546" y="814"/>
                            <a:pt x="568" y="799"/>
                          </a:cubicBezTo>
                          <a:cubicBezTo>
                            <a:pt x="590" y="784"/>
                            <a:pt x="625" y="762"/>
                            <a:pt x="645" y="732"/>
                          </a:cubicBezTo>
                          <a:cubicBezTo>
                            <a:pt x="665" y="702"/>
                            <a:pt x="691" y="661"/>
                            <a:pt x="688" y="617"/>
                          </a:cubicBezTo>
                          <a:cubicBezTo>
                            <a:pt x="685" y="573"/>
                            <a:pt x="646" y="505"/>
                            <a:pt x="628" y="467"/>
                          </a:cubicBezTo>
                          <a:cubicBezTo>
                            <a:pt x="610" y="429"/>
                            <a:pt x="598" y="411"/>
                            <a:pt x="578" y="389"/>
                          </a:cubicBezTo>
                          <a:cubicBezTo>
                            <a:pt x="558" y="367"/>
                            <a:pt x="531" y="354"/>
                            <a:pt x="506" y="335"/>
                          </a:cubicBezTo>
                          <a:cubicBezTo>
                            <a:pt x="481" y="316"/>
                            <a:pt x="455" y="290"/>
                            <a:pt x="428" y="273"/>
                          </a:cubicBezTo>
                          <a:cubicBezTo>
                            <a:pt x="401" y="256"/>
                            <a:pt x="349" y="237"/>
                            <a:pt x="346" y="235"/>
                          </a:cubicBezTo>
                          <a:cubicBezTo>
                            <a:pt x="343" y="233"/>
                            <a:pt x="386" y="256"/>
                            <a:pt x="410" y="259"/>
                          </a:cubicBezTo>
                          <a:cubicBezTo>
                            <a:pt x="434" y="262"/>
                            <a:pt x="467" y="256"/>
                            <a:pt x="488" y="251"/>
                          </a:cubicBezTo>
                          <a:cubicBezTo>
                            <a:pt x="509" y="246"/>
                            <a:pt x="522" y="238"/>
                            <a:pt x="534" y="227"/>
                          </a:cubicBezTo>
                          <a:cubicBezTo>
                            <a:pt x="546" y="216"/>
                            <a:pt x="557" y="200"/>
                            <a:pt x="562" y="187"/>
                          </a:cubicBezTo>
                          <a:cubicBezTo>
                            <a:pt x="567" y="174"/>
                            <a:pt x="564" y="162"/>
                            <a:pt x="562" y="149"/>
                          </a:cubicBezTo>
                          <a:cubicBezTo>
                            <a:pt x="560" y="136"/>
                            <a:pt x="557" y="123"/>
                            <a:pt x="550" y="111"/>
                          </a:cubicBezTo>
                          <a:cubicBezTo>
                            <a:pt x="543" y="99"/>
                            <a:pt x="533" y="83"/>
                            <a:pt x="518" y="75"/>
                          </a:cubicBezTo>
                          <a:cubicBezTo>
                            <a:pt x="503" y="67"/>
                            <a:pt x="479" y="59"/>
                            <a:pt x="462" y="61"/>
                          </a:cubicBezTo>
                          <a:cubicBezTo>
                            <a:pt x="445" y="63"/>
                            <a:pt x="429" y="75"/>
                            <a:pt x="414" y="89"/>
                          </a:cubicBezTo>
                          <a:cubicBezTo>
                            <a:pt x="399" y="103"/>
                            <a:pt x="387" y="127"/>
                            <a:pt x="371" y="142"/>
                          </a:cubicBezTo>
                          <a:cubicBezTo>
                            <a:pt x="355" y="157"/>
                            <a:pt x="322" y="182"/>
                            <a:pt x="318" y="177"/>
                          </a:cubicBez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866480" y="4603680"/>
                      <a:ext cx="588960" cy="78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0" h="732">
                          <a:moveTo>
                            <a:pt x="82" y="684"/>
                          </a:moveTo>
                          <a:cubicBezTo>
                            <a:pt x="105" y="681"/>
                            <a:pt x="121" y="690"/>
                            <a:pt x="149" y="684"/>
                          </a:cubicBezTo>
                          <a:cubicBezTo>
                            <a:pt x="177" y="678"/>
                            <a:pt x="221" y="666"/>
                            <a:pt x="250" y="648"/>
                          </a:cubicBezTo>
                          <a:cubicBezTo>
                            <a:pt x="279" y="630"/>
                            <a:pt x="307" y="604"/>
                            <a:pt x="322" y="578"/>
                          </a:cubicBezTo>
                          <a:cubicBezTo>
                            <a:pt x="337" y="552"/>
                            <a:pt x="339" y="529"/>
                            <a:pt x="341" y="494"/>
                          </a:cubicBezTo>
                          <a:cubicBezTo>
                            <a:pt x="343" y="459"/>
                            <a:pt x="335" y="404"/>
                            <a:pt x="331" y="370"/>
                          </a:cubicBezTo>
                          <a:cubicBezTo>
                            <a:pt x="327" y="336"/>
                            <a:pt x="324" y="320"/>
                            <a:pt x="319" y="290"/>
                          </a:cubicBezTo>
                          <a:cubicBezTo>
                            <a:pt x="314" y="260"/>
                            <a:pt x="297" y="225"/>
                            <a:pt x="303" y="190"/>
                          </a:cubicBezTo>
                          <a:cubicBezTo>
                            <a:pt x="309" y="155"/>
                            <a:pt x="335" y="110"/>
                            <a:pt x="357" y="82"/>
                          </a:cubicBezTo>
                          <a:cubicBezTo>
                            <a:pt x="379" y="54"/>
                            <a:pt x="405" y="35"/>
                            <a:pt x="437" y="22"/>
                          </a:cubicBezTo>
                          <a:cubicBezTo>
                            <a:pt x="469" y="9"/>
                            <a:pt x="550" y="0"/>
                            <a:pt x="550" y="2"/>
                          </a:cubicBezTo>
                          <a:cubicBezTo>
                            <a:pt x="550" y="4"/>
                            <a:pt x="469" y="14"/>
                            <a:pt x="437" y="34"/>
                          </a:cubicBezTo>
                          <a:cubicBezTo>
                            <a:pt x="405" y="54"/>
                            <a:pt x="372" y="90"/>
                            <a:pt x="357" y="122"/>
                          </a:cubicBezTo>
                          <a:cubicBezTo>
                            <a:pt x="342" y="154"/>
                            <a:pt x="343" y="190"/>
                            <a:pt x="346" y="228"/>
                          </a:cubicBezTo>
                          <a:cubicBezTo>
                            <a:pt x="349" y="266"/>
                            <a:pt x="371" y="306"/>
                            <a:pt x="377" y="350"/>
                          </a:cubicBezTo>
                          <a:cubicBezTo>
                            <a:pt x="383" y="394"/>
                            <a:pt x="392" y="443"/>
                            <a:pt x="385" y="490"/>
                          </a:cubicBezTo>
                          <a:cubicBezTo>
                            <a:pt x="378" y="537"/>
                            <a:pt x="357" y="594"/>
                            <a:pt x="334" y="631"/>
                          </a:cubicBezTo>
                          <a:cubicBezTo>
                            <a:pt x="311" y="668"/>
                            <a:pt x="281" y="693"/>
                            <a:pt x="247" y="710"/>
                          </a:cubicBezTo>
                          <a:cubicBezTo>
                            <a:pt x="213" y="727"/>
                            <a:pt x="164" y="732"/>
                            <a:pt x="129" y="732"/>
                          </a:cubicBezTo>
                          <a:cubicBezTo>
                            <a:pt x="94" y="732"/>
                            <a:pt x="54" y="718"/>
                            <a:pt x="34" y="713"/>
                          </a:cubicBezTo>
                          <a:cubicBezTo>
                            <a:pt x="14" y="708"/>
                            <a:pt x="0" y="706"/>
                            <a:pt x="10" y="701"/>
                          </a:cubicBezTo>
                          <a:cubicBezTo>
                            <a:pt x="20" y="696"/>
                            <a:pt x="59" y="687"/>
                            <a:pt x="82" y="684"/>
                          </a:cubicBez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flipV="1">
                      <a:off x="4432680" y="4639680"/>
                      <a:ext cx="8280" cy="637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 flipV="1">
                      <a:off x="4436640" y="4591080"/>
                      <a:ext cx="79200" cy="117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 flipH="1">
                      <a:off x="4426200" y="4749120"/>
                      <a:ext cx="4320" cy="64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4440960" y="4751280"/>
                      <a:ext cx="55440" cy="939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3" name=""/>
                  <p:cNvSpPr/>
                  <p:nvPr/>
                </p:nvSpPr>
                <p:spPr>
                  <a:xfrm>
                    <a:off x="4588920" y="4710600"/>
                    <a:ext cx="42840" cy="4716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5558400" y="4506480"/>
                  <a:ext cx="1041480" cy="906480"/>
                  <a:chOff x="5558400" y="4506480"/>
                  <a:chExt cx="1041480" cy="9064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5707440" y="4767120"/>
                    <a:ext cx="374760" cy="26172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861600">
                    <a:off x="5902560" y="4837320"/>
                    <a:ext cx="588240" cy="4392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509200">
                    <a:off x="6243480" y="4953960"/>
                    <a:ext cx="277920" cy="3492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0932800">
                    <a:off x="6099120" y="5276520"/>
                    <a:ext cx="293040" cy="10908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784400">
                    <a:off x="5999760" y="5166360"/>
                    <a:ext cx="98640" cy="2196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493600">
                    <a:off x="5803560" y="4618080"/>
                    <a:ext cx="98640" cy="2196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9878600">
                    <a:off x="5566320" y="4652280"/>
                    <a:ext cx="293040" cy="10908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80600">
                    <a:off x="5906880" y="4628880"/>
                    <a:ext cx="98640" cy="2196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9878600">
                    <a:off x="5896440" y="4570200"/>
                    <a:ext cx="294120" cy="10944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6403680" y="4938840"/>
                    <a:ext cx="196200" cy="2196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5819760" y="4834440"/>
                    <a:ext cx="63360" cy="64440"/>
                    <a:chOff x="5819760" y="4834440"/>
                    <a:chExt cx="63360" cy="6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5819760" y="4834440"/>
                      <a:ext cx="63360" cy="644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9966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830560" y="4845600"/>
                      <a:ext cx="39960" cy="40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9966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8" name=""/>
                <p:cNvSpPr/>
                <p:nvPr/>
              </p:nvSpPr>
              <p:spPr>
                <a:xfrm>
                  <a:off x="6888960" y="4483080"/>
                  <a:ext cx="908280" cy="903240"/>
                </a:xfrm>
                <a:custGeom>
                  <a:avLst/>
                  <a:gdLst/>
                  <a:ahLst/>
                  <a:rect l="l" t="t" r="r" b="b"/>
                  <a:pathLst>
                    <a:path w="572" h="569">
                      <a:moveTo>
                        <a:pt x="229" y="106"/>
                      </a:moveTo>
                      <a:cubicBezTo>
                        <a:pt x="224" y="95"/>
                        <a:pt x="219" y="85"/>
                        <a:pt x="214" y="79"/>
                      </a:cubicBezTo>
                      <a:cubicBezTo>
                        <a:pt x="209" y="73"/>
                        <a:pt x="198" y="72"/>
                        <a:pt x="196" y="67"/>
                      </a:cubicBezTo>
                      <a:cubicBezTo>
                        <a:pt x="194" y="62"/>
                        <a:pt x="202" y="50"/>
                        <a:pt x="202" y="46"/>
                      </a:cubicBezTo>
                      <a:cubicBezTo>
                        <a:pt x="202" y="42"/>
                        <a:pt x="200" y="41"/>
                        <a:pt x="196" y="40"/>
                      </a:cubicBezTo>
                      <a:cubicBezTo>
                        <a:pt x="192" y="39"/>
                        <a:pt x="182" y="34"/>
                        <a:pt x="178" y="37"/>
                      </a:cubicBezTo>
                      <a:cubicBezTo>
                        <a:pt x="174" y="40"/>
                        <a:pt x="180" y="55"/>
                        <a:pt x="169" y="58"/>
                      </a:cubicBezTo>
                      <a:cubicBezTo>
                        <a:pt x="158" y="61"/>
                        <a:pt x="130" y="48"/>
                        <a:pt x="109" y="55"/>
                      </a:cubicBezTo>
                      <a:cubicBezTo>
                        <a:pt x="88" y="62"/>
                        <a:pt x="55" y="88"/>
                        <a:pt x="40" y="100"/>
                      </a:cubicBezTo>
                      <a:cubicBezTo>
                        <a:pt x="25" y="112"/>
                        <a:pt x="20" y="118"/>
                        <a:pt x="19" y="124"/>
                      </a:cubicBezTo>
                      <a:cubicBezTo>
                        <a:pt x="18" y="130"/>
                        <a:pt x="27" y="126"/>
                        <a:pt x="34" y="135"/>
                      </a:cubicBezTo>
                      <a:cubicBezTo>
                        <a:pt x="41" y="144"/>
                        <a:pt x="53" y="166"/>
                        <a:pt x="63" y="177"/>
                      </a:cubicBezTo>
                      <a:cubicBezTo>
                        <a:pt x="73" y="188"/>
                        <a:pt x="88" y="195"/>
                        <a:pt x="97" y="199"/>
                      </a:cubicBezTo>
                      <a:cubicBezTo>
                        <a:pt x="106" y="203"/>
                        <a:pt x="116" y="194"/>
                        <a:pt x="118" y="202"/>
                      </a:cubicBezTo>
                      <a:cubicBezTo>
                        <a:pt x="120" y="210"/>
                        <a:pt x="115" y="233"/>
                        <a:pt x="109" y="247"/>
                      </a:cubicBezTo>
                      <a:cubicBezTo>
                        <a:pt x="103" y="261"/>
                        <a:pt x="92" y="289"/>
                        <a:pt x="81" y="288"/>
                      </a:cubicBezTo>
                      <a:cubicBezTo>
                        <a:pt x="70" y="287"/>
                        <a:pt x="51" y="251"/>
                        <a:pt x="42" y="241"/>
                      </a:cubicBezTo>
                      <a:cubicBezTo>
                        <a:pt x="33" y="231"/>
                        <a:pt x="31" y="228"/>
                        <a:pt x="24" y="229"/>
                      </a:cubicBezTo>
                      <a:cubicBezTo>
                        <a:pt x="17" y="230"/>
                        <a:pt x="0" y="239"/>
                        <a:pt x="1" y="250"/>
                      </a:cubicBezTo>
                      <a:cubicBezTo>
                        <a:pt x="2" y="261"/>
                        <a:pt x="21" y="282"/>
                        <a:pt x="30" y="294"/>
                      </a:cubicBezTo>
                      <a:cubicBezTo>
                        <a:pt x="39" y="306"/>
                        <a:pt x="48" y="309"/>
                        <a:pt x="54" y="319"/>
                      </a:cubicBezTo>
                      <a:cubicBezTo>
                        <a:pt x="60" y="329"/>
                        <a:pt x="59" y="346"/>
                        <a:pt x="69" y="354"/>
                      </a:cubicBezTo>
                      <a:cubicBezTo>
                        <a:pt x="79" y="362"/>
                        <a:pt x="104" y="368"/>
                        <a:pt x="115" y="370"/>
                      </a:cubicBezTo>
                      <a:cubicBezTo>
                        <a:pt x="126" y="372"/>
                        <a:pt x="138" y="358"/>
                        <a:pt x="136" y="367"/>
                      </a:cubicBezTo>
                      <a:cubicBezTo>
                        <a:pt x="134" y="376"/>
                        <a:pt x="109" y="408"/>
                        <a:pt x="105" y="424"/>
                      </a:cubicBezTo>
                      <a:cubicBezTo>
                        <a:pt x="101" y="440"/>
                        <a:pt x="106" y="447"/>
                        <a:pt x="112" y="463"/>
                      </a:cubicBezTo>
                      <a:cubicBezTo>
                        <a:pt x="118" y="479"/>
                        <a:pt x="141" y="510"/>
                        <a:pt x="139" y="523"/>
                      </a:cubicBezTo>
                      <a:cubicBezTo>
                        <a:pt x="137" y="536"/>
                        <a:pt x="109" y="534"/>
                        <a:pt x="100" y="541"/>
                      </a:cubicBezTo>
                      <a:cubicBezTo>
                        <a:pt x="91" y="548"/>
                        <a:pt x="80" y="561"/>
                        <a:pt x="85" y="565"/>
                      </a:cubicBezTo>
                      <a:cubicBezTo>
                        <a:pt x="90" y="569"/>
                        <a:pt x="116" y="569"/>
                        <a:pt x="133" y="568"/>
                      </a:cubicBezTo>
                      <a:cubicBezTo>
                        <a:pt x="150" y="567"/>
                        <a:pt x="172" y="558"/>
                        <a:pt x="189" y="558"/>
                      </a:cubicBezTo>
                      <a:cubicBezTo>
                        <a:pt x="206" y="558"/>
                        <a:pt x="221" y="567"/>
                        <a:pt x="235" y="568"/>
                      </a:cubicBezTo>
                      <a:cubicBezTo>
                        <a:pt x="249" y="569"/>
                        <a:pt x="258" y="566"/>
                        <a:pt x="274" y="562"/>
                      </a:cubicBezTo>
                      <a:cubicBezTo>
                        <a:pt x="290" y="558"/>
                        <a:pt x="314" y="546"/>
                        <a:pt x="334" y="544"/>
                      </a:cubicBezTo>
                      <a:cubicBezTo>
                        <a:pt x="354" y="542"/>
                        <a:pt x="374" y="550"/>
                        <a:pt x="393" y="547"/>
                      </a:cubicBezTo>
                      <a:cubicBezTo>
                        <a:pt x="412" y="544"/>
                        <a:pt x="435" y="536"/>
                        <a:pt x="451" y="523"/>
                      </a:cubicBezTo>
                      <a:cubicBezTo>
                        <a:pt x="467" y="510"/>
                        <a:pt x="481" y="479"/>
                        <a:pt x="487" y="466"/>
                      </a:cubicBezTo>
                      <a:cubicBezTo>
                        <a:pt x="493" y="453"/>
                        <a:pt x="489" y="455"/>
                        <a:pt x="490" y="445"/>
                      </a:cubicBezTo>
                      <a:cubicBezTo>
                        <a:pt x="491" y="435"/>
                        <a:pt x="495" y="414"/>
                        <a:pt x="495" y="405"/>
                      </a:cubicBezTo>
                      <a:cubicBezTo>
                        <a:pt x="495" y="396"/>
                        <a:pt x="490" y="399"/>
                        <a:pt x="490" y="388"/>
                      </a:cubicBezTo>
                      <a:cubicBezTo>
                        <a:pt x="490" y="377"/>
                        <a:pt x="494" y="348"/>
                        <a:pt x="492" y="340"/>
                      </a:cubicBezTo>
                      <a:cubicBezTo>
                        <a:pt x="490" y="332"/>
                        <a:pt x="483" y="346"/>
                        <a:pt x="481" y="340"/>
                      </a:cubicBezTo>
                      <a:cubicBezTo>
                        <a:pt x="479" y="334"/>
                        <a:pt x="481" y="309"/>
                        <a:pt x="478" y="304"/>
                      </a:cubicBezTo>
                      <a:cubicBezTo>
                        <a:pt x="475" y="299"/>
                        <a:pt x="462" y="303"/>
                        <a:pt x="460" y="307"/>
                      </a:cubicBezTo>
                      <a:cubicBezTo>
                        <a:pt x="458" y="311"/>
                        <a:pt x="469" y="335"/>
                        <a:pt x="466" y="331"/>
                      </a:cubicBezTo>
                      <a:cubicBezTo>
                        <a:pt x="463" y="327"/>
                        <a:pt x="447" y="293"/>
                        <a:pt x="442" y="283"/>
                      </a:cubicBezTo>
                      <a:cubicBezTo>
                        <a:pt x="437" y="273"/>
                        <a:pt x="439" y="274"/>
                        <a:pt x="438" y="271"/>
                      </a:cubicBezTo>
                      <a:cubicBezTo>
                        <a:pt x="437" y="268"/>
                        <a:pt x="438" y="265"/>
                        <a:pt x="435" y="262"/>
                      </a:cubicBezTo>
                      <a:cubicBezTo>
                        <a:pt x="432" y="259"/>
                        <a:pt x="413" y="254"/>
                        <a:pt x="418" y="253"/>
                      </a:cubicBezTo>
                      <a:cubicBezTo>
                        <a:pt x="423" y="252"/>
                        <a:pt x="444" y="261"/>
                        <a:pt x="463" y="256"/>
                      </a:cubicBezTo>
                      <a:cubicBezTo>
                        <a:pt x="482" y="251"/>
                        <a:pt x="518" y="243"/>
                        <a:pt x="535" y="225"/>
                      </a:cubicBezTo>
                      <a:cubicBezTo>
                        <a:pt x="552" y="207"/>
                        <a:pt x="564" y="167"/>
                        <a:pt x="568" y="148"/>
                      </a:cubicBezTo>
                      <a:cubicBezTo>
                        <a:pt x="572" y="129"/>
                        <a:pt x="562" y="117"/>
                        <a:pt x="558" y="112"/>
                      </a:cubicBezTo>
                      <a:cubicBezTo>
                        <a:pt x="554" y="107"/>
                        <a:pt x="542" y="121"/>
                        <a:pt x="541" y="118"/>
                      </a:cubicBezTo>
                      <a:cubicBezTo>
                        <a:pt x="540" y="115"/>
                        <a:pt x="552" y="105"/>
                        <a:pt x="550" y="94"/>
                      </a:cubicBezTo>
                      <a:cubicBezTo>
                        <a:pt x="548" y="83"/>
                        <a:pt x="536" y="62"/>
                        <a:pt x="526" y="49"/>
                      </a:cubicBezTo>
                      <a:cubicBezTo>
                        <a:pt x="516" y="36"/>
                        <a:pt x="494" y="18"/>
                        <a:pt x="487" y="16"/>
                      </a:cubicBezTo>
                      <a:cubicBezTo>
                        <a:pt x="480" y="14"/>
                        <a:pt x="491" y="38"/>
                        <a:pt x="487" y="37"/>
                      </a:cubicBezTo>
                      <a:cubicBezTo>
                        <a:pt x="483" y="36"/>
                        <a:pt x="476" y="16"/>
                        <a:pt x="460" y="10"/>
                      </a:cubicBezTo>
                      <a:cubicBezTo>
                        <a:pt x="444" y="4"/>
                        <a:pt x="404" y="0"/>
                        <a:pt x="391" y="0"/>
                      </a:cubicBezTo>
                      <a:cubicBezTo>
                        <a:pt x="378" y="0"/>
                        <a:pt x="388" y="12"/>
                        <a:pt x="382" y="13"/>
                      </a:cubicBezTo>
                      <a:cubicBezTo>
                        <a:pt x="376" y="14"/>
                        <a:pt x="370" y="0"/>
                        <a:pt x="357" y="3"/>
                      </a:cubicBezTo>
                      <a:cubicBezTo>
                        <a:pt x="344" y="6"/>
                        <a:pt x="311" y="20"/>
                        <a:pt x="301" y="31"/>
                      </a:cubicBezTo>
                      <a:cubicBezTo>
                        <a:pt x="291" y="42"/>
                        <a:pt x="300" y="66"/>
                        <a:pt x="298" y="70"/>
                      </a:cubicBezTo>
                      <a:cubicBezTo>
                        <a:pt x="296" y="74"/>
                        <a:pt x="300" y="51"/>
                        <a:pt x="292" y="54"/>
                      </a:cubicBezTo>
                      <a:cubicBezTo>
                        <a:pt x="284" y="57"/>
                        <a:pt x="260" y="74"/>
                        <a:pt x="252" y="85"/>
                      </a:cubicBezTo>
                      <a:cubicBezTo>
                        <a:pt x="244" y="96"/>
                        <a:pt x="246" y="115"/>
                        <a:pt x="241" y="118"/>
                      </a:cubicBezTo>
                      <a:cubicBezTo>
                        <a:pt x="236" y="121"/>
                        <a:pt x="231" y="106"/>
                        <a:pt x="223" y="105"/>
                      </a:cubicBezTo>
                      <a:cubicBezTo>
                        <a:pt x="215" y="104"/>
                        <a:pt x="199" y="108"/>
                        <a:pt x="193" y="109"/>
                      </a:cubicBezTo>
                    </a:path>
                  </a:pathLst>
                </a:custGeom>
                <a:solidFill>
                  <a:srgbClr val="9b3a0f"/>
                </a:solidFill>
                <a:ln w="9360">
                  <a:solidFill>
                    <a:srgbClr val="9b3a0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804560" y="2853000"/>
                <a:ext cx="2676240" cy="1297440"/>
                <a:chOff x="4804560" y="2853000"/>
                <a:chExt cx="2676240" cy="12974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5959080" y="2853000"/>
                  <a:ext cx="1521720" cy="1297440"/>
                  <a:chOff x="5959080" y="2853000"/>
                  <a:chExt cx="1521720" cy="129744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959080" y="2853000"/>
                    <a:ext cx="1521720" cy="1297440"/>
                    <a:chOff x="5959080" y="2853000"/>
                    <a:chExt cx="1521720" cy="129744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rot="675000">
                      <a:off x="6101640" y="2968200"/>
                      <a:ext cx="12873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2" h="995">
                          <a:moveTo>
                            <a:pt x="1119" y="808"/>
                          </a:moveTo>
                          <a:cubicBezTo>
                            <a:pt x="1120" y="799"/>
                            <a:pt x="1142" y="830"/>
                            <a:pt x="1155" y="838"/>
                          </a:cubicBezTo>
                          <a:cubicBezTo>
                            <a:pt x="1168" y="846"/>
                            <a:pt x="1202" y="877"/>
                            <a:pt x="1197" y="856"/>
                          </a:cubicBezTo>
                          <a:cubicBezTo>
                            <a:pt x="1192" y="835"/>
                            <a:pt x="1147" y="754"/>
                            <a:pt x="1125" y="712"/>
                          </a:cubicBezTo>
                          <a:cubicBezTo>
                            <a:pt x="1103" y="670"/>
                            <a:pt x="1077" y="628"/>
                            <a:pt x="1065" y="604"/>
                          </a:cubicBezTo>
                          <a:cubicBezTo>
                            <a:pt x="1053" y="580"/>
                            <a:pt x="1058" y="584"/>
                            <a:pt x="1053" y="568"/>
                          </a:cubicBezTo>
                          <a:cubicBezTo>
                            <a:pt x="1048" y="552"/>
                            <a:pt x="1046" y="534"/>
                            <a:pt x="1035" y="508"/>
                          </a:cubicBezTo>
                          <a:cubicBezTo>
                            <a:pt x="1024" y="482"/>
                            <a:pt x="1000" y="441"/>
                            <a:pt x="987" y="412"/>
                          </a:cubicBezTo>
                          <a:cubicBezTo>
                            <a:pt x="974" y="383"/>
                            <a:pt x="971" y="358"/>
                            <a:pt x="957" y="334"/>
                          </a:cubicBezTo>
                          <a:cubicBezTo>
                            <a:pt x="943" y="310"/>
                            <a:pt x="926" y="292"/>
                            <a:pt x="903" y="268"/>
                          </a:cubicBezTo>
                          <a:cubicBezTo>
                            <a:pt x="880" y="244"/>
                            <a:pt x="840" y="213"/>
                            <a:pt x="819" y="190"/>
                          </a:cubicBezTo>
                          <a:cubicBezTo>
                            <a:pt x="798" y="167"/>
                            <a:pt x="805" y="155"/>
                            <a:pt x="777" y="130"/>
                          </a:cubicBezTo>
                          <a:cubicBezTo>
                            <a:pt x="749" y="105"/>
                            <a:pt x="700" y="61"/>
                            <a:pt x="651" y="40"/>
                          </a:cubicBezTo>
                          <a:cubicBezTo>
                            <a:pt x="602" y="19"/>
                            <a:pt x="539" y="0"/>
                            <a:pt x="483" y="4"/>
                          </a:cubicBezTo>
                          <a:cubicBezTo>
                            <a:pt x="427" y="8"/>
                            <a:pt x="344" y="29"/>
                            <a:pt x="315" y="64"/>
                          </a:cubicBezTo>
                          <a:cubicBezTo>
                            <a:pt x="286" y="99"/>
                            <a:pt x="315" y="170"/>
                            <a:pt x="309" y="214"/>
                          </a:cubicBezTo>
                          <a:cubicBezTo>
                            <a:pt x="303" y="258"/>
                            <a:pt x="301" y="307"/>
                            <a:pt x="279" y="328"/>
                          </a:cubicBezTo>
                          <a:cubicBezTo>
                            <a:pt x="257" y="349"/>
                            <a:pt x="210" y="322"/>
                            <a:pt x="177" y="340"/>
                          </a:cubicBezTo>
                          <a:cubicBezTo>
                            <a:pt x="144" y="358"/>
                            <a:pt x="109" y="397"/>
                            <a:pt x="81" y="436"/>
                          </a:cubicBezTo>
                          <a:cubicBezTo>
                            <a:pt x="53" y="475"/>
                            <a:pt x="18" y="530"/>
                            <a:pt x="9" y="574"/>
                          </a:cubicBezTo>
                          <a:cubicBezTo>
                            <a:pt x="0" y="618"/>
                            <a:pt x="16" y="672"/>
                            <a:pt x="27" y="700"/>
                          </a:cubicBezTo>
                          <a:cubicBezTo>
                            <a:pt x="38" y="728"/>
                            <a:pt x="61" y="729"/>
                            <a:pt x="75" y="742"/>
                          </a:cubicBezTo>
                          <a:cubicBezTo>
                            <a:pt x="89" y="755"/>
                            <a:pt x="96" y="765"/>
                            <a:pt x="111" y="778"/>
                          </a:cubicBezTo>
                          <a:cubicBezTo>
                            <a:pt x="126" y="791"/>
                            <a:pt x="157" y="823"/>
                            <a:pt x="165" y="820"/>
                          </a:cubicBezTo>
                          <a:cubicBezTo>
                            <a:pt x="173" y="817"/>
                            <a:pt x="160" y="780"/>
                            <a:pt x="159" y="760"/>
                          </a:cubicBezTo>
                          <a:cubicBezTo>
                            <a:pt x="158" y="740"/>
                            <a:pt x="157" y="717"/>
                            <a:pt x="159" y="700"/>
                          </a:cubicBezTo>
                          <a:cubicBezTo>
                            <a:pt x="161" y="683"/>
                            <a:pt x="159" y="669"/>
                            <a:pt x="171" y="658"/>
                          </a:cubicBezTo>
                          <a:cubicBezTo>
                            <a:pt x="183" y="647"/>
                            <a:pt x="220" y="631"/>
                            <a:pt x="231" y="634"/>
                          </a:cubicBezTo>
                          <a:cubicBezTo>
                            <a:pt x="242" y="637"/>
                            <a:pt x="223" y="664"/>
                            <a:pt x="237" y="676"/>
                          </a:cubicBezTo>
                          <a:cubicBezTo>
                            <a:pt x="251" y="688"/>
                            <a:pt x="296" y="700"/>
                            <a:pt x="315" y="706"/>
                          </a:cubicBezTo>
                          <a:cubicBezTo>
                            <a:pt x="334" y="712"/>
                            <a:pt x="332" y="706"/>
                            <a:pt x="351" y="712"/>
                          </a:cubicBezTo>
                          <a:cubicBezTo>
                            <a:pt x="370" y="718"/>
                            <a:pt x="411" y="732"/>
                            <a:pt x="429" y="742"/>
                          </a:cubicBezTo>
                          <a:cubicBezTo>
                            <a:pt x="447" y="752"/>
                            <a:pt x="456" y="750"/>
                            <a:pt x="459" y="772"/>
                          </a:cubicBezTo>
                          <a:cubicBezTo>
                            <a:pt x="462" y="794"/>
                            <a:pt x="450" y="846"/>
                            <a:pt x="447" y="874"/>
                          </a:cubicBezTo>
                          <a:cubicBezTo>
                            <a:pt x="444" y="902"/>
                            <a:pt x="425" y="931"/>
                            <a:pt x="441" y="940"/>
                          </a:cubicBezTo>
                          <a:cubicBezTo>
                            <a:pt x="457" y="949"/>
                            <a:pt x="518" y="943"/>
                            <a:pt x="543" y="928"/>
                          </a:cubicBezTo>
                          <a:cubicBezTo>
                            <a:pt x="568" y="913"/>
                            <a:pt x="582" y="873"/>
                            <a:pt x="591" y="850"/>
                          </a:cubicBezTo>
                          <a:cubicBezTo>
                            <a:pt x="600" y="827"/>
                            <a:pt x="596" y="788"/>
                            <a:pt x="597" y="790"/>
                          </a:cubicBezTo>
                          <a:cubicBezTo>
                            <a:pt x="598" y="792"/>
                            <a:pt x="591" y="844"/>
                            <a:pt x="597" y="862"/>
                          </a:cubicBezTo>
                          <a:cubicBezTo>
                            <a:pt x="603" y="880"/>
                            <a:pt x="616" y="883"/>
                            <a:pt x="633" y="898"/>
                          </a:cubicBezTo>
                          <a:cubicBezTo>
                            <a:pt x="650" y="913"/>
                            <a:pt x="682" y="941"/>
                            <a:pt x="699" y="952"/>
                          </a:cubicBezTo>
                          <a:cubicBezTo>
                            <a:pt x="716" y="963"/>
                            <a:pt x="722" y="957"/>
                            <a:pt x="735" y="964"/>
                          </a:cubicBezTo>
                          <a:cubicBezTo>
                            <a:pt x="748" y="971"/>
                            <a:pt x="757" y="993"/>
                            <a:pt x="777" y="994"/>
                          </a:cubicBezTo>
                          <a:cubicBezTo>
                            <a:pt x="797" y="995"/>
                            <a:pt x="839" y="981"/>
                            <a:pt x="855" y="970"/>
                          </a:cubicBezTo>
                          <a:cubicBezTo>
                            <a:pt x="871" y="959"/>
                            <a:pt x="862" y="936"/>
                            <a:pt x="873" y="928"/>
                          </a:cubicBezTo>
                          <a:cubicBezTo>
                            <a:pt x="884" y="920"/>
                            <a:pt x="912" y="936"/>
                            <a:pt x="921" y="922"/>
                          </a:cubicBezTo>
                          <a:cubicBezTo>
                            <a:pt x="930" y="908"/>
                            <a:pt x="926" y="866"/>
                            <a:pt x="927" y="844"/>
                          </a:cubicBezTo>
                          <a:cubicBezTo>
                            <a:pt x="928" y="822"/>
                            <a:pt x="939" y="810"/>
                            <a:pt x="927" y="790"/>
                          </a:cubicBezTo>
                          <a:cubicBezTo>
                            <a:pt x="915" y="770"/>
                            <a:pt x="877" y="747"/>
                            <a:pt x="855" y="724"/>
                          </a:cubicBezTo>
                          <a:cubicBezTo>
                            <a:pt x="833" y="701"/>
                            <a:pt x="806" y="674"/>
                            <a:pt x="795" y="652"/>
                          </a:cubicBezTo>
                          <a:cubicBezTo>
                            <a:pt x="784" y="630"/>
                            <a:pt x="784" y="603"/>
                            <a:pt x="789" y="592"/>
                          </a:cubicBezTo>
                          <a:cubicBezTo>
                            <a:pt x="794" y="581"/>
                            <a:pt x="815" y="581"/>
                            <a:pt x="825" y="586"/>
                          </a:cubicBezTo>
                          <a:cubicBezTo>
                            <a:pt x="835" y="591"/>
                            <a:pt x="832" y="609"/>
                            <a:pt x="849" y="622"/>
                          </a:cubicBezTo>
                          <a:cubicBezTo>
                            <a:pt x="866" y="635"/>
                            <a:pt x="910" y="646"/>
                            <a:pt x="927" y="664"/>
                          </a:cubicBezTo>
                          <a:cubicBezTo>
                            <a:pt x="944" y="682"/>
                            <a:pt x="938" y="709"/>
                            <a:pt x="951" y="730"/>
                          </a:cubicBezTo>
                          <a:cubicBezTo>
                            <a:pt x="964" y="751"/>
                            <a:pt x="983" y="769"/>
                            <a:pt x="1005" y="790"/>
                          </a:cubicBezTo>
                          <a:cubicBezTo>
                            <a:pt x="1027" y="811"/>
                            <a:pt x="1065" y="834"/>
                            <a:pt x="1083" y="856"/>
                          </a:cubicBezTo>
                          <a:cubicBezTo>
                            <a:pt x="1101" y="878"/>
                            <a:pt x="1102" y="916"/>
                            <a:pt x="1113" y="922"/>
                          </a:cubicBezTo>
                          <a:cubicBezTo>
                            <a:pt x="1124" y="928"/>
                            <a:pt x="1146" y="906"/>
                            <a:pt x="1149" y="892"/>
                          </a:cubicBezTo>
                          <a:cubicBezTo>
                            <a:pt x="1152" y="878"/>
                            <a:pt x="1118" y="817"/>
                            <a:pt x="1119" y="808"/>
                          </a:cubicBez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675000">
                      <a:off x="5977440" y="3025800"/>
                      <a:ext cx="570600" cy="24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3" h="229">
                          <a:moveTo>
                            <a:pt x="301" y="222"/>
                          </a:moveTo>
                          <a:cubicBezTo>
                            <a:pt x="274" y="215"/>
                            <a:pt x="272" y="186"/>
                            <a:pt x="253" y="174"/>
                          </a:cubicBezTo>
                          <a:cubicBezTo>
                            <a:pt x="234" y="162"/>
                            <a:pt x="215" y="153"/>
                            <a:pt x="187" y="150"/>
                          </a:cubicBezTo>
                          <a:cubicBezTo>
                            <a:pt x="159" y="147"/>
                            <a:pt x="115" y="158"/>
                            <a:pt x="85" y="156"/>
                          </a:cubicBezTo>
                          <a:cubicBezTo>
                            <a:pt x="55" y="154"/>
                            <a:pt x="14" y="156"/>
                            <a:pt x="7" y="138"/>
                          </a:cubicBezTo>
                          <a:cubicBezTo>
                            <a:pt x="0" y="120"/>
                            <a:pt x="15" y="70"/>
                            <a:pt x="43" y="48"/>
                          </a:cubicBezTo>
                          <a:cubicBezTo>
                            <a:pt x="71" y="26"/>
                            <a:pt x="124" y="12"/>
                            <a:pt x="175" y="6"/>
                          </a:cubicBezTo>
                          <a:cubicBezTo>
                            <a:pt x="226" y="0"/>
                            <a:pt x="293" y="3"/>
                            <a:pt x="349" y="12"/>
                          </a:cubicBezTo>
                          <a:cubicBezTo>
                            <a:pt x="405" y="21"/>
                            <a:pt x="489" y="36"/>
                            <a:pt x="511" y="60"/>
                          </a:cubicBezTo>
                          <a:cubicBezTo>
                            <a:pt x="533" y="84"/>
                            <a:pt x="497" y="130"/>
                            <a:pt x="481" y="156"/>
                          </a:cubicBezTo>
                          <a:cubicBezTo>
                            <a:pt x="465" y="182"/>
                            <a:pt x="444" y="204"/>
                            <a:pt x="415" y="216"/>
                          </a:cubicBezTo>
                          <a:cubicBezTo>
                            <a:pt x="386" y="228"/>
                            <a:pt x="328" y="229"/>
                            <a:pt x="301" y="222"/>
                          </a:cubicBez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 rot="675000">
                      <a:off x="6298200" y="3607920"/>
                      <a:ext cx="180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214">
                          <a:moveTo>
                            <a:pt x="19" y="36"/>
                          </a:moveTo>
                          <a:cubicBezTo>
                            <a:pt x="14" y="54"/>
                            <a:pt x="16" y="87"/>
                            <a:pt x="13" y="108"/>
                          </a:cubicBezTo>
                          <a:cubicBezTo>
                            <a:pt x="10" y="129"/>
                            <a:pt x="0" y="146"/>
                            <a:pt x="1" y="162"/>
                          </a:cubicBezTo>
                          <a:cubicBezTo>
                            <a:pt x="2" y="178"/>
                            <a:pt x="3" y="197"/>
                            <a:pt x="19" y="204"/>
                          </a:cubicBezTo>
                          <a:cubicBezTo>
                            <a:pt x="35" y="211"/>
                            <a:pt x="76" y="214"/>
                            <a:pt x="97" y="204"/>
                          </a:cubicBezTo>
                          <a:cubicBezTo>
                            <a:pt x="118" y="194"/>
                            <a:pt x="136" y="165"/>
                            <a:pt x="145" y="144"/>
                          </a:cubicBezTo>
                          <a:cubicBezTo>
                            <a:pt x="154" y="123"/>
                            <a:pt x="150" y="96"/>
                            <a:pt x="151" y="78"/>
                          </a:cubicBezTo>
                          <a:cubicBezTo>
                            <a:pt x="152" y="60"/>
                            <a:pt x="169" y="49"/>
                            <a:pt x="151" y="36"/>
                          </a:cubicBezTo>
                          <a:cubicBezTo>
                            <a:pt x="133" y="23"/>
                            <a:pt x="64" y="0"/>
                            <a:pt x="43" y="0"/>
                          </a:cubicBezTo>
                          <a:cubicBezTo>
                            <a:pt x="22" y="0"/>
                            <a:pt x="24" y="18"/>
                            <a:pt x="19" y="36"/>
                          </a:cubicBez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 rot="675000">
                      <a:off x="6349680" y="3915720"/>
                      <a:ext cx="21204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50">
                          <a:moveTo>
                            <a:pt x="108" y="18"/>
                          </a:moveTo>
                          <a:lnTo>
                            <a:pt x="78" y="42"/>
                          </a:lnTo>
                          <a:lnTo>
                            <a:pt x="30" y="30"/>
                          </a:lnTo>
                          <a:lnTo>
                            <a:pt x="0" y="78"/>
                          </a:lnTo>
                          <a:lnTo>
                            <a:pt x="78" y="54"/>
                          </a:lnTo>
                          <a:lnTo>
                            <a:pt x="24" y="84"/>
                          </a:lnTo>
                          <a:lnTo>
                            <a:pt x="30" y="132"/>
                          </a:lnTo>
                          <a:lnTo>
                            <a:pt x="66" y="84"/>
                          </a:lnTo>
                          <a:lnTo>
                            <a:pt x="132" y="78"/>
                          </a:lnTo>
                          <a:lnTo>
                            <a:pt x="150" y="138"/>
                          </a:lnTo>
                          <a:lnTo>
                            <a:pt x="198" y="150"/>
                          </a:lnTo>
                          <a:lnTo>
                            <a:pt x="162" y="84"/>
                          </a:lnTo>
                          <a:lnTo>
                            <a:pt x="192" y="0"/>
                          </a:lnTo>
                          <a:lnTo>
                            <a:pt x="108" y="18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rot="675000">
                      <a:off x="6142680" y="3782520"/>
                      <a:ext cx="21204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32">
                          <a:moveTo>
                            <a:pt x="108" y="0"/>
                          </a:moveTo>
                          <a:lnTo>
                            <a:pt x="78" y="24"/>
                          </a:lnTo>
                          <a:lnTo>
                            <a:pt x="30" y="12"/>
                          </a:lnTo>
                          <a:lnTo>
                            <a:pt x="0" y="60"/>
                          </a:lnTo>
                          <a:lnTo>
                            <a:pt x="78" y="36"/>
                          </a:lnTo>
                          <a:lnTo>
                            <a:pt x="24" y="66"/>
                          </a:lnTo>
                          <a:lnTo>
                            <a:pt x="30" y="114"/>
                          </a:lnTo>
                          <a:lnTo>
                            <a:pt x="66" y="66"/>
                          </a:lnTo>
                          <a:lnTo>
                            <a:pt x="132" y="60"/>
                          </a:lnTo>
                          <a:lnTo>
                            <a:pt x="150" y="120"/>
                          </a:lnTo>
                          <a:lnTo>
                            <a:pt x="198" y="132"/>
                          </a:lnTo>
                          <a:lnTo>
                            <a:pt x="162" y="66"/>
                          </a:lnTo>
                          <a:lnTo>
                            <a:pt x="168" y="24"/>
                          </a:lnTo>
                          <a:lnTo>
                            <a:pt x="108" y="0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936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7" name=""/>
                  <p:cNvSpPr/>
                  <p:nvPr/>
                </p:nvSpPr>
                <p:spPr>
                  <a:xfrm rot="675000">
                    <a:off x="6157080" y="3524760"/>
                    <a:ext cx="37080" cy="3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99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" name=""/>
                <p:cNvSpPr/>
                <p:nvPr/>
              </p:nvSpPr>
              <p:spPr>
                <a:xfrm>
                  <a:off x="4804560" y="3152520"/>
                  <a:ext cx="1279440" cy="932040"/>
                </a:xfrm>
                <a:custGeom>
                  <a:avLst/>
                  <a:gdLst/>
                  <a:ahLst/>
                  <a:rect l="l" t="t" r="r" b="b"/>
                  <a:pathLst>
                    <a:path w="995" h="724">
                      <a:moveTo>
                        <a:pt x="967" y="571"/>
                      </a:moveTo>
                      <a:cubicBezTo>
                        <a:pt x="953" y="560"/>
                        <a:pt x="924" y="539"/>
                        <a:pt x="910" y="526"/>
                      </a:cubicBezTo>
                      <a:cubicBezTo>
                        <a:pt x="896" y="513"/>
                        <a:pt x="892" y="504"/>
                        <a:pt x="883" y="492"/>
                      </a:cubicBezTo>
                      <a:cubicBezTo>
                        <a:pt x="874" y="480"/>
                        <a:pt x="864" y="471"/>
                        <a:pt x="857" y="454"/>
                      </a:cubicBezTo>
                      <a:cubicBezTo>
                        <a:pt x="850" y="437"/>
                        <a:pt x="850" y="408"/>
                        <a:pt x="842" y="388"/>
                      </a:cubicBezTo>
                      <a:cubicBezTo>
                        <a:pt x="834" y="368"/>
                        <a:pt x="826" y="352"/>
                        <a:pt x="809" y="333"/>
                      </a:cubicBezTo>
                      <a:cubicBezTo>
                        <a:pt x="792" y="314"/>
                        <a:pt x="777" y="292"/>
                        <a:pt x="743" y="277"/>
                      </a:cubicBezTo>
                      <a:cubicBezTo>
                        <a:pt x="709" y="262"/>
                        <a:pt x="648" y="245"/>
                        <a:pt x="605" y="241"/>
                      </a:cubicBezTo>
                      <a:cubicBezTo>
                        <a:pt x="562" y="237"/>
                        <a:pt x="520" y="255"/>
                        <a:pt x="482" y="256"/>
                      </a:cubicBezTo>
                      <a:cubicBezTo>
                        <a:pt x="444" y="257"/>
                        <a:pt x="406" y="253"/>
                        <a:pt x="374" y="247"/>
                      </a:cubicBezTo>
                      <a:cubicBezTo>
                        <a:pt x="342" y="241"/>
                        <a:pt x="308" y="238"/>
                        <a:pt x="290" y="223"/>
                      </a:cubicBezTo>
                      <a:cubicBezTo>
                        <a:pt x="272" y="208"/>
                        <a:pt x="268" y="170"/>
                        <a:pt x="263" y="154"/>
                      </a:cubicBezTo>
                      <a:cubicBezTo>
                        <a:pt x="258" y="138"/>
                        <a:pt x="266" y="141"/>
                        <a:pt x="260" y="127"/>
                      </a:cubicBezTo>
                      <a:cubicBezTo>
                        <a:pt x="254" y="113"/>
                        <a:pt x="237" y="89"/>
                        <a:pt x="227" y="70"/>
                      </a:cubicBezTo>
                      <a:cubicBezTo>
                        <a:pt x="217" y="51"/>
                        <a:pt x="206" y="19"/>
                        <a:pt x="197" y="13"/>
                      </a:cubicBezTo>
                      <a:cubicBezTo>
                        <a:pt x="188" y="7"/>
                        <a:pt x="180" y="31"/>
                        <a:pt x="173" y="37"/>
                      </a:cubicBezTo>
                      <a:cubicBezTo>
                        <a:pt x="166" y="43"/>
                        <a:pt x="160" y="42"/>
                        <a:pt x="158" y="49"/>
                      </a:cubicBezTo>
                      <a:cubicBezTo>
                        <a:pt x="156" y="56"/>
                        <a:pt x="161" y="83"/>
                        <a:pt x="158" y="82"/>
                      </a:cubicBezTo>
                      <a:cubicBezTo>
                        <a:pt x="155" y="81"/>
                        <a:pt x="144" y="53"/>
                        <a:pt x="137" y="40"/>
                      </a:cubicBezTo>
                      <a:cubicBezTo>
                        <a:pt x="130" y="27"/>
                        <a:pt x="122" y="0"/>
                        <a:pt x="116" y="1"/>
                      </a:cubicBezTo>
                      <a:cubicBezTo>
                        <a:pt x="110" y="2"/>
                        <a:pt x="105" y="33"/>
                        <a:pt x="103" y="46"/>
                      </a:cubicBezTo>
                      <a:cubicBezTo>
                        <a:pt x="101" y="59"/>
                        <a:pt x="100" y="67"/>
                        <a:pt x="103" y="78"/>
                      </a:cubicBezTo>
                      <a:cubicBezTo>
                        <a:pt x="106" y="89"/>
                        <a:pt x="127" y="106"/>
                        <a:pt x="124" y="115"/>
                      </a:cubicBezTo>
                      <a:cubicBezTo>
                        <a:pt x="121" y="124"/>
                        <a:pt x="94" y="127"/>
                        <a:pt x="85" y="135"/>
                      </a:cubicBezTo>
                      <a:cubicBezTo>
                        <a:pt x="76" y="143"/>
                        <a:pt x="78" y="157"/>
                        <a:pt x="67" y="166"/>
                      </a:cubicBezTo>
                      <a:cubicBezTo>
                        <a:pt x="56" y="175"/>
                        <a:pt x="30" y="182"/>
                        <a:pt x="20" y="187"/>
                      </a:cubicBezTo>
                      <a:cubicBezTo>
                        <a:pt x="10" y="192"/>
                        <a:pt x="0" y="192"/>
                        <a:pt x="5" y="199"/>
                      </a:cubicBezTo>
                      <a:cubicBezTo>
                        <a:pt x="10" y="206"/>
                        <a:pt x="37" y="221"/>
                        <a:pt x="53" y="229"/>
                      </a:cubicBezTo>
                      <a:cubicBezTo>
                        <a:pt x="69" y="237"/>
                        <a:pt x="88" y="243"/>
                        <a:pt x="104" y="250"/>
                      </a:cubicBezTo>
                      <a:cubicBezTo>
                        <a:pt x="120" y="257"/>
                        <a:pt x="138" y="261"/>
                        <a:pt x="148" y="274"/>
                      </a:cubicBezTo>
                      <a:cubicBezTo>
                        <a:pt x="158" y="287"/>
                        <a:pt x="159" y="308"/>
                        <a:pt x="167" y="328"/>
                      </a:cubicBezTo>
                      <a:cubicBezTo>
                        <a:pt x="175" y="348"/>
                        <a:pt x="183" y="375"/>
                        <a:pt x="194" y="394"/>
                      </a:cubicBezTo>
                      <a:cubicBezTo>
                        <a:pt x="205" y="413"/>
                        <a:pt x="219" y="432"/>
                        <a:pt x="233" y="445"/>
                      </a:cubicBezTo>
                      <a:cubicBezTo>
                        <a:pt x="247" y="458"/>
                        <a:pt x="266" y="459"/>
                        <a:pt x="278" y="472"/>
                      </a:cubicBezTo>
                      <a:cubicBezTo>
                        <a:pt x="290" y="485"/>
                        <a:pt x="298" y="503"/>
                        <a:pt x="305" y="523"/>
                      </a:cubicBezTo>
                      <a:cubicBezTo>
                        <a:pt x="312" y="543"/>
                        <a:pt x="317" y="572"/>
                        <a:pt x="317" y="594"/>
                      </a:cubicBezTo>
                      <a:cubicBezTo>
                        <a:pt x="317" y="616"/>
                        <a:pt x="312" y="645"/>
                        <a:pt x="308" y="658"/>
                      </a:cubicBezTo>
                      <a:cubicBezTo>
                        <a:pt x="304" y="671"/>
                        <a:pt x="297" y="670"/>
                        <a:pt x="290" y="673"/>
                      </a:cubicBezTo>
                      <a:cubicBezTo>
                        <a:pt x="283" y="676"/>
                        <a:pt x="268" y="673"/>
                        <a:pt x="263" y="679"/>
                      </a:cubicBezTo>
                      <a:cubicBezTo>
                        <a:pt x="258" y="685"/>
                        <a:pt x="252" y="705"/>
                        <a:pt x="257" y="712"/>
                      </a:cubicBezTo>
                      <a:cubicBezTo>
                        <a:pt x="262" y="719"/>
                        <a:pt x="282" y="724"/>
                        <a:pt x="293" y="724"/>
                      </a:cubicBezTo>
                      <a:cubicBezTo>
                        <a:pt x="304" y="724"/>
                        <a:pt x="318" y="717"/>
                        <a:pt x="325" y="712"/>
                      </a:cubicBezTo>
                      <a:cubicBezTo>
                        <a:pt x="332" y="707"/>
                        <a:pt x="333" y="697"/>
                        <a:pt x="338" y="691"/>
                      </a:cubicBezTo>
                      <a:cubicBezTo>
                        <a:pt x="343" y="685"/>
                        <a:pt x="350" y="681"/>
                        <a:pt x="356" y="679"/>
                      </a:cubicBezTo>
                      <a:cubicBezTo>
                        <a:pt x="362" y="677"/>
                        <a:pt x="372" y="684"/>
                        <a:pt x="377" y="679"/>
                      </a:cubicBezTo>
                      <a:cubicBezTo>
                        <a:pt x="382" y="674"/>
                        <a:pt x="384" y="658"/>
                        <a:pt x="388" y="651"/>
                      </a:cubicBezTo>
                      <a:cubicBezTo>
                        <a:pt x="392" y="644"/>
                        <a:pt x="398" y="641"/>
                        <a:pt x="400" y="639"/>
                      </a:cubicBezTo>
                      <a:cubicBezTo>
                        <a:pt x="402" y="637"/>
                        <a:pt x="399" y="649"/>
                        <a:pt x="398" y="637"/>
                      </a:cubicBezTo>
                      <a:cubicBezTo>
                        <a:pt x="397" y="625"/>
                        <a:pt x="394" y="586"/>
                        <a:pt x="395" y="567"/>
                      </a:cubicBezTo>
                      <a:cubicBezTo>
                        <a:pt x="396" y="548"/>
                        <a:pt x="402" y="533"/>
                        <a:pt x="404" y="520"/>
                      </a:cubicBezTo>
                      <a:cubicBezTo>
                        <a:pt x="406" y="507"/>
                        <a:pt x="408" y="495"/>
                        <a:pt x="407" y="487"/>
                      </a:cubicBezTo>
                      <a:cubicBezTo>
                        <a:pt x="406" y="479"/>
                        <a:pt x="384" y="469"/>
                        <a:pt x="398" y="469"/>
                      </a:cubicBezTo>
                      <a:cubicBezTo>
                        <a:pt x="412" y="469"/>
                        <a:pt x="464" y="487"/>
                        <a:pt x="494" y="487"/>
                      </a:cubicBezTo>
                      <a:cubicBezTo>
                        <a:pt x="524" y="487"/>
                        <a:pt x="557" y="464"/>
                        <a:pt x="581" y="466"/>
                      </a:cubicBezTo>
                      <a:cubicBezTo>
                        <a:pt x="605" y="468"/>
                        <a:pt x="621" y="489"/>
                        <a:pt x="638" y="499"/>
                      </a:cubicBezTo>
                      <a:cubicBezTo>
                        <a:pt x="655" y="509"/>
                        <a:pt x="671" y="515"/>
                        <a:pt x="683" y="529"/>
                      </a:cubicBezTo>
                      <a:cubicBezTo>
                        <a:pt x="695" y="543"/>
                        <a:pt x="704" y="561"/>
                        <a:pt x="709" y="583"/>
                      </a:cubicBezTo>
                      <a:cubicBezTo>
                        <a:pt x="714" y="605"/>
                        <a:pt x="721" y="649"/>
                        <a:pt x="713" y="664"/>
                      </a:cubicBezTo>
                      <a:cubicBezTo>
                        <a:pt x="705" y="679"/>
                        <a:pt x="671" y="666"/>
                        <a:pt x="661" y="673"/>
                      </a:cubicBezTo>
                      <a:cubicBezTo>
                        <a:pt x="651" y="680"/>
                        <a:pt x="644" y="698"/>
                        <a:pt x="650" y="706"/>
                      </a:cubicBezTo>
                      <a:cubicBezTo>
                        <a:pt x="656" y="714"/>
                        <a:pt x="682" y="721"/>
                        <a:pt x="695" y="721"/>
                      </a:cubicBezTo>
                      <a:cubicBezTo>
                        <a:pt x="708" y="721"/>
                        <a:pt x="721" y="715"/>
                        <a:pt x="728" y="709"/>
                      </a:cubicBezTo>
                      <a:cubicBezTo>
                        <a:pt x="735" y="703"/>
                        <a:pt x="734" y="692"/>
                        <a:pt x="740" y="685"/>
                      </a:cubicBezTo>
                      <a:cubicBezTo>
                        <a:pt x="746" y="678"/>
                        <a:pt x="758" y="676"/>
                        <a:pt x="764" y="664"/>
                      </a:cubicBezTo>
                      <a:cubicBezTo>
                        <a:pt x="770" y="652"/>
                        <a:pt x="776" y="622"/>
                        <a:pt x="779" y="610"/>
                      </a:cubicBezTo>
                      <a:cubicBezTo>
                        <a:pt x="782" y="598"/>
                        <a:pt x="778" y="587"/>
                        <a:pt x="785" y="592"/>
                      </a:cubicBezTo>
                      <a:cubicBezTo>
                        <a:pt x="792" y="597"/>
                        <a:pt x="808" y="628"/>
                        <a:pt x="824" y="640"/>
                      </a:cubicBezTo>
                      <a:cubicBezTo>
                        <a:pt x="840" y="652"/>
                        <a:pt x="862" y="662"/>
                        <a:pt x="881" y="664"/>
                      </a:cubicBezTo>
                      <a:cubicBezTo>
                        <a:pt x="900" y="666"/>
                        <a:pt x="924" y="661"/>
                        <a:pt x="941" y="655"/>
                      </a:cubicBezTo>
                      <a:cubicBezTo>
                        <a:pt x="958" y="649"/>
                        <a:pt x="974" y="636"/>
                        <a:pt x="983" y="625"/>
                      </a:cubicBezTo>
                      <a:cubicBezTo>
                        <a:pt x="992" y="614"/>
                        <a:pt x="995" y="601"/>
                        <a:pt x="992" y="592"/>
                      </a:cubicBezTo>
                      <a:cubicBezTo>
                        <a:pt x="989" y="583"/>
                        <a:pt x="975" y="578"/>
                        <a:pt x="967" y="571"/>
                      </a:cubicBezTo>
                      <a:close/>
                    </a:path>
                  </a:pathLst>
                </a:custGeom>
                <a:solidFill>
                  <a:srgbClr val="b46014"/>
                </a:solidFill>
                <a:ln w="9360">
                  <a:solidFill>
                    <a:srgbClr val="9b3a0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631680" y="5565600"/>
                <a:ext cx="4925520" cy="930240"/>
                <a:chOff x="3631680" y="5565600"/>
                <a:chExt cx="4925520" cy="930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1680" y="5769000"/>
                  <a:ext cx="820440" cy="685800"/>
                </a:xfrm>
                <a:custGeom>
                  <a:avLst/>
                  <a:gdLst/>
                  <a:ahLst/>
                  <a:rect l="l" t="t" r="r" b="b"/>
                  <a:pathLst>
                    <a:path w="689" h="614">
                      <a:moveTo>
                        <a:pt x="256" y="606"/>
                      </a:moveTo>
                      <a:cubicBezTo>
                        <a:pt x="296" y="606"/>
                        <a:pt x="336" y="606"/>
                        <a:pt x="352" y="558"/>
                      </a:cubicBezTo>
                      <a:cubicBezTo>
                        <a:pt x="368" y="510"/>
                        <a:pt x="368" y="376"/>
                        <a:pt x="352" y="318"/>
                      </a:cubicBezTo>
                      <a:cubicBezTo>
                        <a:pt x="336" y="260"/>
                        <a:pt x="270" y="220"/>
                        <a:pt x="253" y="210"/>
                      </a:cubicBezTo>
                      <a:cubicBezTo>
                        <a:pt x="236" y="200"/>
                        <a:pt x="259" y="240"/>
                        <a:pt x="250" y="261"/>
                      </a:cubicBezTo>
                      <a:cubicBezTo>
                        <a:pt x="241" y="282"/>
                        <a:pt x="223" y="318"/>
                        <a:pt x="196" y="336"/>
                      </a:cubicBezTo>
                      <a:cubicBezTo>
                        <a:pt x="169" y="354"/>
                        <a:pt x="116" y="367"/>
                        <a:pt x="85" y="369"/>
                      </a:cubicBezTo>
                      <a:cubicBezTo>
                        <a:pt x="54" y="371"/>
                        <a:pt x="20" y="359"/>
                        <a:pt x="10" y="348"/>
                      </a:cubicBezTo>
                      <a:cubicBezTo>
                        <a:pt x="0" y="337"/>
                        <a:pt x="16" y="324"/>
                        <a:pt x="25" y="303"/>
                      </a:cubicBezTo>
                      <a:cubicBezTo>
                        <a:pt x="34" y="282"/>
                        <a:pt x="42" y="243"/>
                        <a:pt x="64" y="222"/>
                      </a:cubicBezTo>
                      <a:cubicBezTo>
                        <a:pt x="86" y="201"/>
                        <a:pt x="128" y="182"/>
                        <a:pt x="160" y="174"/>
                      </a:cubicBezTo>
                      <a:cubicBezTo>
                        <a:pt x="192" y="166"/>
                        <a:pt x="224" y="166"/>
                        <a:pt x="256" y="174"/>
                      </a:cubicBezTo>
                      <a:cubicBezTo>
                        <a:pt x="288" y="182"/>
                        <a:pt x="331" y="228"/>
                        <a:pt x="352" y="222"/>
                      </a:cubicBezTo>
                      <a:cubicBezTo>
                        <a:pt x="373" y="216"/>
                        <a:pt x="374" y="161"/>
                        <a:pt x="385" y="138"/>
                      </a:cubicBezTo>
                      <a:cubicBezTo>
                        <a:pt x="396" y="115"/>
                        <a:pt x="403" y="105"/>
                        <a:pt x="421" y="84"/>
                      </a:cubicBezTo>
                      <a:cubicBezTo>
                        <a:pt x="439" y="63"/>
                        <a:pt x="468" y="24"/>
                        <a:pt x="496" y="12"/>
                      </a:cubicBezTo>
                      <a:cubicBezTo>
                        <a:pt x="524" y="0"/>
                        <a:pt x="565" y="6"/>
                        <a:pt x="589" y="12"/>
                      </a:cubicBezTo>
                      <a:cubicBezTo>
                        <a:pt x="613" y="18"/>
                        <a:pt x="624" y="31"/>
                        <a:pt x="640" y="48"/>
                      </a:cubicBezTo>
                      <a:cubicBezTo>
                        <a:pt x="656" y="65"/>
                        <a:pt x="689" y="97"/>
                        <a:pt x="688" y="114"/>
                      </a:cubicBezTo>
                      <a:cubicBezTo>
                        <a:pt x="687" y="131"/>
                        <a:pt x="659" y="146"/>
                        <a:pt x="631" y="153"/>
                      </a:cubicBezTo>
                      <a:cubicBezTo>
                        <a:pt x="603" y="160"/>
                        <a:pt x="550" y="161"/>
                        <a:pt x="517" y="156"/>
                      </a:cubicBezTo>
                      <a:cubicBezTo>
                        <a:pt x="484" y="151"/>
                        <a:pt x="453" y="110"/>
                        <a:pt x="433" y="120"/>
                      </a:cubicBezTo>
                      <a:cubicBezTo>
                        <a:pt x="413" y="130"/>
                        <a:pt x="404" y="184"/>
                        <a:pt x="397" y="216"/>
                      </a:cubicBezTo>
                      <a:cubicBezTo>
                        <a:pt x="390" y="248"/>
                        <a:pt x="388" y="282"/>
                        <a:pt x="388" y="315"/>
                      </a:cubicBezTo>
                      <a:cubicBezTo>
                        <a:pt x="388" y="348"/>
                        <a:pt x="390" y="374"/>
                        <a:pt x="400" y="414"/>
                      </a:cubicBezTo>
                      <a:cubicBezTo>
                        <a:pt x="410" y="454"/>
                        <a:pt x="424" y="526"/>
                        <a:pt x="448" y="558"/>
                      </a:cubicBezTo>
                      <a:cubicBezTo>
                        <a:pt x="472" y="590"/>
                        <a:pt x="576" y="598"/>
                        <a:pt x="544" y="606"/>
                      </a:cubicBezTo>
                      <a:cubicBezTo>
                        <a:pt x="512" y="614"/>
                        <a:pt x="316" y="606"/>
                        <a:pt x="256" y="606"/>
                      </a:cubicBezTo>
                    </a:path>
                  </a:pathLst>
                </a:custGeom>
                <a:solidFill>
                  <a:srgbClr val="009900"/>
                </a:solidFill>
                <a:ln w="936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06440" y="5565600"/>
                  <a:ext cx="768240" cy="889200"/>
                </a:xfrm>
                <a:custGeom>
                  <a:avLst/>
                  <a:gdLst/>
                  <a:ahLst/>
                  <a:rect l="l" t="t" r="r" b="b"/>
                  <a:pathLst>
                    <a:path w="484" h="560">
                      <a:moveTo>
                        <a:pt x="52" y="528"/>
                      </a:moveTo>
                      <a:lnTo>
                        <a:pt x="68" y="344"/>
                      </a:lnTo>
                      <a:lnTo>
                        <a:pt x="0" y="340"/>
                      </a:lnTo>
                      <a:lnTo>
                        <a:pt x="72" y="324"/>
                      </a:lnTo>
                      <a:lnTo>
                        <a:pt x="88" y="436"/>
                      </a:lnTo>
                      <a:lnTo>
                        <a:pt x="124" y="336"/>
                      </a:lnTo>
                      <a:lnTo>
                        <a:pt x="100" y="180"/>
                      </a:lnTo>
                      <a:lnTo>
                        <a:pt x="152" y="300"/>
                      </a:lnTo>
                      <a:lnTo>
                        <a:pt x="116" y="432"/>
                      </a:lnTo>
                      <a:lnTo>
                        <a:pt x="212" y="124"/>
                      </a:lnTo>
                      <a:lnTo>
                        <a:pt x="220" y="0"/>
                      </a:lnTo>
                      <a:lnTo>
                        <a:pt x="228" y="60"/>
                      </a:lnTo>
                      <a:lnTo>
                        <a:pt x="192" y="224"/>
                      </a:lnTo>
                      <a:lnTo>
                        <a:pt x="156" y="388"/>
                      </a:lnTo>
                      <a:lnTo>
                        <a:pt x="228" y="216"/>
                      </a:lnTo>
                      <a:lnTo>
                        <a:pt x="344" y="224"/>
                      </a:lnTo>
                      <a:lnTo>
                        <a:pt x="252" y="244"/>
                      </a:lnTo>
                      <a:lnTo>
                        <a:pt x="208" y="372"/>
                      </a:lnTo>
                      <a:lnTo>
                        <a:pt x="156" y="544"/>
                      </a:lnTo>
                      <a:lnTo>
                        <a:pt x="256" y="352"/>
                      </a:lnTo>
                      <a:lnTo>
                        <a:pt x="244" y="512"/>
                      </a:lnTo>
                      <a:lnTo>
                        <a:pt x="288" y="304"/>
                      </a:lnTo>
                      <a:lnTo>
                        <a:pt x="320" y="524"/>
                      </a:lnTo>
                      <a:lnTo>
                        <a:pt x="356" y="240"/>
                      </a:lnTo>
                      <a:lnTo>
                        <a:pt x="364" y="92"/>
                      </a:lnTo>
                      <a:lnTo>
                        <a:pt x="388" y="200"/>
                      </a:lnTo>
                      <a:lnTo>
                        <a:pt x="360" y="432"/>
                      </a:lnTo>
                      <a:lnTo>
                        <a:pt x="356" y="516"/>
                      </a:lnTo>
                      <a:lnTo>
                        <a:pt x="440" y="396"/>
                      </a:lnTo>
                      <a:lnTo>
                        <a:pt x="380" y="344"/>
                      </a:lnTo>
                      <a:lnTo>
                        <a:pt x="464" y="404"/>
                      </a:lnTo>
                      <a:lnTo>
                        <a:pt x="400" y="524"/>
                      </a:lnTo>
                      <a:lnTo>
                        <a:pt x="452" y="456"/>
                      </a:lnTo>
                      <a:lnTo>
                        <a:pt x="484" y="560"/>
                      </a:lnTo>
                      <a:lnTo>
                        <a:pt x="160" y="556"/>
                      </a:lnTo>
                      <a:lnTo>
                        <a:pt x="36" y="548"/>
                      </a:lnTo>
                      <a:lnTo>
                        <a:pt x="52" y="528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5660280" y="5871960"/>
                  <a:ext cx="867960" cy="623880"/>
                  <a:chOff x="5660280" y="5871960"/>
                  <a:chExt cx="867960" cy="6238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5982480" y="5871960"/>
                    <a:ext cx="545760" cy="37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4" h="338">
                        <a:moveTo>
                          <a:pt x="16" y="124"/>
                        </a:moveTo>
                        <a:lnTo>
                          <a:pt x="0" y="62"/>
                        </a:lnTo>
                        <a:lnTo>
                          <a:pt x="20" y="68"/>
                        </a:lnTo>
                        <a:lnTo>
                          <a:pt x="28" y="0"/>
                        </a:lnTo>
                        <a:lnTo>
                          <a:pt x="114" y="22"/>
                        </a:lnTo>
                        <a:lnTo>
                          <a:pt x="116" y="0"/>
                        </a:lnTo>
                        <a:lnTo>
                          <a:pt x="174" y="48"/>
                        </a:lnTo>
                        <a:lnTo>
                          <a:pt x="190" y="38"/>
                        </a:lnTo>
                        <a:lnTo>
                          <a:pt x="212" y="96"/>
                        </a:lnTo>
                        <a:lnTo>
                          <a:pt x="226" y="86"/>
                        </a:lnTo>
                        <a:lnTo>
                          <a:pt x="228" y="136"/>
                        </a:lnTo>
                        <a:lnTo>
                          <a:pt x="318" y="112"/>
                        </a:lnTo>
                        <a:lnTo>
                          <a:pt x="308" y="138"/>
                        </a:lnTo>
                        <a:lnTo>
                          <a:pt x="396" y="128"/>
                        </a:lnTo>
                        <a:lnTo>
                          <a:pt x="376" y="152"/>
                        </a:lnTo>
                        <a:lnTo>
                          <a:pt x="494" y="164"/>
                        </a:lnTo>
                        <a:lnTo>
                          <a:pt x="452" y="188"/>
                        </a:lnTo>
                        <a:lnTo>
                          <a:pt x="476" y="196"/>
                        </a:lnTo>
                        <a:lnTo>
                          <a:pt x="430" y="236"/>
                        </a:lnTo>
                        <a:lnTo>
                          <a:pt x="456" y="234"/>
                        </a:lnTo>
                        <a:lnTo>
                          <a:pt x="382" y="276"/>
                        </a:lnTo>
                        <a:lnTo>
                          <a:pt x="408" y="294"/>
                        </a:lnTo>
                        <a:lnTo>
                          <a:pt x="318" y="318"/>
                        </a:lnTo>
                        <a:lnTo>
                          <a:pt x="328" y="334"/>
                        </a:lnTo>
                        <a:lnTo>
                          <a:pt x="230" y="338"/>
                        </a:lnTo>
                        <a:lnTo>
                          <a:pt x="160" y="268"/>
                        </a:lnTo>
                        <a:lnTo>
                          <a:pt x="66" y="194"/>
                        </a:lnTo>
                        <a:lnTo>
                          <a:pt x="24" y="156"/>
                        </a:lnTo>
                        <a:lnTo>
                          <a:pt x="22" y="112"/>
                        </a:lnTo>
                        <a:lnTo>
                          <a:pt x="6" y="102"/>
                        </a:lnTo>
                      </a:path>
                    </a:pathLst>
                  </a:custGeom>
                  <a:solidFill>
                    <a:srgbClr val="006600"/>
                  </a:solidFill>
                  <a:ln w="9360">
                    <a:solidFill>
                      <a:srgbClr val="00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20796000">
                    <a:off x="5850720" y="6123240"/>
                    <a:ext cx="396720" cy="3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99">
                        <a:moveTo>
                          <a:pt x="325" y="62"/>
                        </a:moveTo>
                        <a:cubicBezTo>
                          <a:pt x="321" y="59"/>
                          <a:pt x="294" y="40"/>
                          <a:pt x="297" y="46"/>
                        </a:cubicBezTo>
                        <a:cubicBezTo>
                          <a:pt x="300" y="52"/>
                          <a:pt x="336" y="72"/>
                          <a:pt x="343" y="98"/>
                        </a:cubicBezTo>
                        <a:cubicBezTo>
                          <a:pt x="350" y="124"/>
                          <a:pt x="359" y="175"/>
                          <a:pt x="341" y="204"/>
                        </a:cubicBezTo>
                        <a:cubicBezTo>
                          <a:pt x="323" y="233"/>
                          <a:pt x="275" y="254"/>
                          <a:pt x="237" y="270"/>
                        </a:cubicBezTo>
                        <a:cubicBezTo>
                          <a:pt x="199" y="286"/>
                          <a:pt x="143" y="297"/>
                          <a:pt x="111" y="298"/>
                        </a:cubicBezTo>
                        <a:cubicBezTo>
                          <a:pt x="79" y="299"/>
                          <a:pt x="60" y="288"/>
                          <a:pt x="43" y="274"/>
                        </a:cubicBezTo>
                        <a:cubicBezTo>
                          <a:pt x="26" y="260"/>
                          <a:pt x="0" y="239"/>
                          <a:pt x="7" y="212"/>
                        </a:cubicBezTo>
                        <a:cubicBezTo>
                          <a:pt x="14" y="185"/>
                          <a:pt x="63" y="143"/>
                          <a:pt x="87" y="110"/>
                        </a:cubicBezTo>
                        <a:cubicBezTo>
                          <a:pt x="111" y="77"/>
                          <a:pt x="118" y="28"/>
                          <a:pt x="149" y="14"/>
                        </a:cubicBezTo>
                        <a:cubicBezTo>
                          <a:pt x="180" y="0"/>
                          <a:pt x="241" y="12"/>
                          <a:pt x="271" y="24"/>
                        </a:cubicBezTo>
                        <a:cubicBezTo>
                          <a:pt x="301" y="36"/>
                          <a:pt x="315" y="72"/>
                          <a:pt x="327" y="88"/>
                        </a:cubicBezTo>
                        <a:cubicBezTo>
                          <a:pt x="339" y="104"/>
                          <a:pt x="342" y="115"/>
                          <a:pt x="345" y="120"/>
                        </a:cubicBezTo>
                      </a:path>
                    </a:pathLst>
                  </a:custGeom>
                  <a:solidFill>
                    <a:srgbClr val="cc0000"/>
                  </a:solidFill>
                  <a:ln w="936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5660280" y="6042240"/>
                    <a:ext cx="469440" cy="28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62">
                        <a:moveTo>
                          <a:pt x="163" y="143"/>
                        </a:moveTo>
                        <a:cubicBezTo>
                          <a:pt x="150" y="150"/>
                          <a:pt x="119" y="162"/>
                          <a:pt x="98" y="162"/>
                        </a:cubicBezTo>
                        <a:cubicBezTo>
                          <a:pt x="77" y="162"/>
                          <a:pt x="52" y="155"/>
                          <a:pt x="36" y="145"/>
                        </a:cubicBezTo>
                        <a:cubicBezTo>
                          <a:pt x="19" y="135"/>
                          <a:pt x="0" y="117"/>
                          <a:pt x="0" y="104"/>
                        </a:cubicBezTo>
                        <a:cubicBezTo>
                          <a:pt x="1" y="90"/>
                          <a:pt x="26" y="79"/>
                          <a:pt x="40" y="65"/>
                        </a:cubicBezTo>
                        <a:cubicBezTo>
                          <a:pt x="53" y="52"/>
                          <a:pt x="62" y="34"/>
                          <a:pt x="81" y="24"/>
                        </a:cubicBezTo>
                        <a:cubicBezTo>
                          <a:pt x="99" y="13"/>
                          <a:pt x="129" y="2"/>
                          <a:pt x="153" y="1"/>
                        </a:cubicBezTo>
                        <a:cubicBezTo>
                          <a:pt x="176" y="0"/>
                          <a:pt x="202" y="4"/>
                          <a:pt x="219" y="12"/>
                        </a:cubicBezTo>
                        <a:cubicBezTo>
                          <a:pt x="236" y="21"/>
                          <a:pt x="245" y="40"/>
                          <a:pt x="253" y="51"/>
                        </a:cubicBezTo>
                        <a:cubicBezTo>
                          <a:pt x="260" y="63"/>
                          <a:pt x="271" y="76"/>
                          <a:pt x="266" y="82"/>
                        </a:cubicBezTo>
                        <a:cubicBezTo>
                          <a:pt x="260" y="88"/>
                          <a:pt x="232" y="82"/>
                          <a:pt x="222" y="87"/>
                        </a:cubicBezTo>
                        <a:cubicBezTo>
                          <a:pt x="212" y="92"/>
                          <a:pt x="211" y="106"/>
                          <a:pt x="208" y="113"/>
                        </a:cubicBezTo>
                        <a:cubicBezTo>
                          <a:pt x="205" y="120"/>
                          <a:pt x="213" y="126"/>
                          <a:pt x="205" y="131"/>
                        </a:cubicBezTo>
                        <a:cubicBezTo>
                          <a:pt x="197" y="136"/>
                          <a:pt x="172" y="141"/>
                          <a:pt x="163" y="143"/>
                        </a:cubicBezTo>
                        <a:close/>
                      </a:path>
                    </a:pathLst>
                  </a:custGeom>
                  <a:solidFill>
                    <a:srgbClr val="cc0000"/>
                  </a:solidFill>
                  <a:ln w="9360">
                    <a:solidFill>
                      <a:srgbClr val="cc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7731360" y="5756040"/>
                  <a:ext cx="825840" cy="698400"/>
                  <a:chOff x="7731360" y="5756040"/>
                  <a:chExt cx="825840" cy="6984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8019000" y="6149880"/>
                    <a:ext cx="304920" cy="30456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7836480" y="5792400"/>
                    <a:ext cx="21924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96">
                        <a:moveTo>
                          <a:pt x="0" y="0"/>
                        </a:moveTo>
                        <a:cubicBezTo>
                          <a:pt x="18" y="6"/>
                          <a:pt x="37" y="13"/>
                          <a:pt x="58" y="28"/>
                        </a:cubicBezTo>
                        <a:cubicBezTo>
                          <a:pt x="79" y="43"/>
                          <a:pt x="114" y="64"/>
                          <a:pt x="126" y="88"/>
                        </a:cubicBezTo>
                        <a:cubicBezTo>
                          <a:pt x="138" y="112"/>
                          <a:pt x="133" y="154"/>
                          <a:pt x="132" y="172"/>
                        </a:cubicBezTo>
                        <a:cubicBezTo>
                          <a:pt x="131" y="190"/>
                          <a:pt x="124" y="193"/>
                          <a:pt x="118" y="196"/>
                        </a:cubicBezTo>
                      </a:path>
                    </a:pathLst>
                  </a:custGeom>
                  <a:noFill/>
                  <a:ln w="3816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839720" y="5790960"/>
                    <a:ext cx="36216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312">
                        <a:moveTo>
                          <a:pt x="0" y="0"/>
                        </a:moveTo>
                        <a:cubicBezTo>
                          <a:pt x="49" y="14"/>
                          <a:pt x="98" y="28"/>
                          <a:pt x="132" y="54"/>
                        </a:cubicBezTo>
                        <a:cubicBezTo>
                          <a:pt x="166" y="80"/>
                          <a:pt x="187" y="121"/>
                          <a:pt x="202" y="156"/>
                        </a:cubicBezTo>
                        <a:cubicBezTo>
                          <a:pt x="217" y="191"/>
                          <a:pt x="220" y="236"/>
                          <a:pt x="224" y="262"/>
                        </a:cubicBezTo>
                        <a:cubicBezTo>
                          <a:pt x="228" y="288"/>
                          <a:pt x="227" y="300"/>
                          <a:pt x="226" y="312"/>
                        </a:cubicBezTo>
                      </a:path>
                    </a:pathLst>
                  </a:custGeom>
                  <a:noFill/>
                  <a:ln w="3816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849440" y="5756040"/>
                    <a:ext cx="51732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92">
                        <a:moveTo>
                          <a:pt x="0" y="18"/>
                        </a:moveTo>
                        <a:cubicBezTo>
                          <a:pt x="29" y="9"/>
                          <a:pt x="58" y="0"/>
                          <a:pt x="96" y="8"/>
                        </a:cubicBezTo>
                        <a:cubicBezTo>
                          <a:pt x="134" y="16"/>
                          <a:pt x="196" y="44"/>
                          <a:pt x="230" y="68"/>
                        </a:cubicBezTo>
                        <a:cubicBezTo>
                          <a:pt x="264" y="92"/>
                          <a:pt x="284" y="131"/>
                          <a:pt x="300" y="152"/>
                        </a:cubicBezTo>
                        <a:cubicBezTo>
                          <a:pt x="316" y="173"/>
                          <a:pt x="321" y="182"/>
                          <a:pt x="326" y="192"/>
                        </a:cubicBezTo>
                      </a:path>
                    </a:pathLst>
                  </a:custGeom>
                  <a:noFill/>
                  <a:ln w="3816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2497800">
                    <a:off x="7783920" y="6038280"/>
                    <a:ext cx="304560" cy="2746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252640" y="6016320"/>
                    <a:ext cx="304560" cy="274680"/>
                  </a:xfrm>
                  <a:prstGeom prst="ellipse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4536360" y="5722920"/>
                  <a:ext cx="812520" cy="731520"/>
                  <a:chOff x="4536360" y="5722920"/>
                  <a:chExt cx="812520" cy="73152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5018040" y="6029640"/>
                    <a:ext cx="330840" cy="29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5" h="374">
                        <a:moveTo>
                          <a:pt x="0" y="252"/>
                        </a:moveTo>
                        <a:cubicBezTo>
                          <a:pt x="21" y="294"/>
                          <a:pt x="43" y="336"/>
                          <a:pt x="96" y="354"/>
                        </a:cubicBezTo>
                        <a:cubicBezTo>
                          <a:pt x="149" y="372"/>
                          <a:pt x="266" y="374"/>
                          <a:pt x="318" y="360"/>
                        </a:cubicBezTo>
                        <a:cubicBezTo>
                          <a:pt x="370" y="346"/>
                          <a:pt x="401" y="313"/>
                          <a:pt x="408" y="270"/>
                        </a:cubicBezTo>
                        <a:cubicBezTo>
                          <a:pt x="415" y="227"/>
                          <a:pt x="385" y="142"/>
                          <a:pt x="360" y="102"/>
                        </a:cubicBezTo>
                        <a:cubicBezTo>
                          <a:pt x="335" y="62"/>
                          <a:pt x="285" y="47"/>
                          <a:pt x="258" y="30"/>
                        </a:cubicBezTo>
                        <a:cubicBezTo>
                          <a:pt x="231" y="13"/>
                          <a:pt x="214" y="6"/>
                          <a:pt x="198" y="0"/>
                        </a:cubicBezTo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335200">
                    <a:off x="5013720" y="5996520"/>
                    <a:ext cx="178200" cy="27792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536360" y="6025320"/>
                    <a:ext cx="40176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538">
                        <a:moveTo>
                          <a:pt x="165" y="18"/>
                        </a:moveTo>
                        <a:cubicBezTo>
                          <a:pt x="151" y="36"/>
                          <a:pt x="52" y="99"/>
                          <a:pt x="27" y="144"/>
                        </a:cubicBezTo>
                        <a:cubicBezTo>
                          <a:pt x="2" y="189"/>
                          <a:pt x="17" y="243"/>
                          <a:pt x="15" y="288"/>
                        </a:cubicBezTo>
                        <a:cubicBezTo>
                          <a:pt x="13" y="333"/>
                          <a:pt x="0" y="375"/>
                          <a:pt x="15" y="414"/>
                        </a:cubicBezTo>
                        <a:cubicBezTo>
                          <a:pt x="30" y="453"/>
                          <a:pt x="63" y="506"/>
                          <a:pt x="105" y="522"/>
                        </a:cubicBezTo>
                        <a:cubicBezTo>
                          <a:pt x="147" y="538"/>
                          <a:pt x="210" y="528"/>
                          <a:pt x="267" y="510"/>
                        </a:cubicBezTo>
                        <a:cubicBezTo>
                          <a:pt x="324" y="492"/>
                          <a:pt x="414" y="456"/>
                          <a:pt x="447" y="414"/>
                        </a:cubicBezTo>
                        <a:cubicBezTo>
                          <a:pt x="480" y="372"/>
                          <a:pt x="504" y="309"/>
                          <a:pt x="465" y="258"/>
                        </a:cubicBezTo>
                        <a:cubicBezTo>
                          <a:pt x="426" y="207"/>
                          <a:pt x="272" y="145"/>
                          <a:pt x="213" y="108"/>
                        </a:cubicBezTo>
                        <a:cubicBezTo>
                          <a:pt x="154" y="71"/>
                          <a:pt x="118" y="52"/>
                          <a:pt x="111" y="36"/>
                        </a:cubicBezTo>
                        <a:cubicBezTo>
                          <a:pt x="104" y="20"/>
                          <a:pt x="179" y="0"/>
                          <a:pt x="165" y="18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452000">
                    <a:off x="4567680" y="6036120"/>
                    <a:ext cx="406080" cy="225360"/>
                  </a:xfrm>
                  <a:prstGeom prst="ellipse">
                    <a:avLst/>
                  </a:prstGeom>
                  <a:solidFill>
                    <a:srgbClr val="663300"/>
                  </a:solidFill>
                  <a:ln w="9360">
                    <a:solidFill>
                      <a:srgbClr val="66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782600" y="5722920"/>
                    <a:ext cx="296640" cy="38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481">
                        <a:moveTo>
                          <a:pt x="0" y="462"/>
                        </a:moveTo>
                        <a:cubicBezTo>
                          <a:pt x="61" y="412"/>
                          <a:pt x="123" y="363"/>
                          <a:pt x="168" y="300"/>
                        </a:cubicBezTo>
                        <a:cubicBezTo>
                          <a:pt x="213" y="237"/>
                          <a:pt x="253" y="134"/>
                          <a:pt x="270" y="84"/>
                        </a:cubicBezTo>
                        <a:cubicBezTo>
                          <a:pt x="287" y="34"/>
                          <a:pt x="276" y="0"/>
                          <a:pt x="270" y="0"/>
                        </a:cubicBezTo>
                        <a:cubicBezTo>
                          <a:pt x="264" y="0"/>
                          <a:pt x="240" y="35"/>
                          <a:pt x="234" y="84"/>
                        </a:cubicBezTo>
                        <a:cubicBezTo>
                          <a:pt x="228" y="133"/>
                          <a:pt x="227" y="233"/>
                          <a:pt x="234" y="294"/>
                        </a:cubicBezTo>
                        <a:cubicBezTo>
                          <a:pt x="241" y="355"/>
                          <a:pt x="253" y="419"/>
                          <a:pt x="276" y="450"/>
                        </a:cubicBezTo>
                        <a:cubicBezTo>
                          <a:pt x="299" y="481"/>
                          <a:pt x="335" y="480"/>
                          <a:pt x="372" y="480"/>
                        </a:cubicBezTo>
                      </a:path>
                    </a:pathLst>
                  </a:custGeom>
                  <a:noFill/>
                  <a:ln w="3816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9" name=""/>
            <p:cNvGrpSpPr/>
            <p:nvPr/>
          </p:nvGrpSpPr>
          <p:grpSpPr>
            <a:xfrm>
              <a:off x="5663880" y="1512720"/>
              <a:ext cx="655560" cy="1316520"/>
              <a:chOff x="5663880" y="1512720"/>
              <a:chExt cx="655560" cy="1316520"/>
            </a:xfrm>
          </p:grpSpPr>
          <p:sp>
            <p:nvSpPr>
              <p:cNvPr id="200" name=""/>
              <p:cNvSpPr/>
              <p:nvPr/>
            </p:nvSpPr>
            <p:spPr>
              <a:xfrm>
                <a:off x="5847840" y="1512720"/>
                <a:ext cx="288720" cy="350280"/>
              </a:xfrm>
              <a:prstGeom prst="ellipse">
                <a:avLst/>
              </a:prstGeom>
              <a:solidFill>
                <a:srgbClr val="ff3399"/>
              </a:solidFill>
              <a:ln w="93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663880" y="1848240"/>
                <a:ext cx="655560" cy="981000"/>
                <a:chOff x="5663880" y="1848240"/>
                <a:chExt cx="655560" cy="981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813280" y="1852920"/>
                  <a:ext cx="357840" cy="470520"/>
                </a:xfrm>
                <a:custGeom>
                  <a:avLst/>
                  <a:gdLst>
                    <a:gd name="textAreaLeft" fmla="*/ 17280 w 357840"/>
                    <a:gd name="textAreaRight" fmla="*/ 340560 w 357840"/>
                    <a:gd name="textAreaTop" fmla="*/ 17280 h 470520"/>
                    <a:gd name="textAreaBottom" fmla="*/ 453240 h 470520"/>
                  </a:gdLst>
                  <a:ahLst/>
                  <a:rect l="textAreaLeft" t="textAreaTop" r="textAreaRight" b="textAreaBottom"/>
                  <a:pathLst>
                    <a:path w="21600" h="28395">
                      <a:moveTo>
                        <a:pt x="3600" y="0"/>
                      </a:moveTo>
                      <a:arcTo wR="3600" hR="3600" stAng="16200000" swAng="-5400000"/>
                      <a:lnTo>
                        <a:pt x="0" y="24795"/>
                      </a:lnTo>
                      <a:arcTo wR="3600" hR="3600" stAng="10800000" swAng="-5400000"/>
                      <a:lnTo>
                        <a:pt x="18000" y="2839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32160" y="2323440"/>
                  <a:ext cx="138960" cy="505800"/>
                </a:xfrm>
                <a:custGeom>
                  <a:avLst/>
                  <a:gdLst>
                    <a:gd name="textAreaLeft" fmla="*/ 6480 w 138960"/>
                    <a:gd name="textAreaRight" fmla="*/ 132480 w 138960"/>
                    <a:gd name="textAreaTop" fmla="*/ 6480 h 505800"/>
                    <a:gd name="textAreaBottom" fmla="*/ 499320 h 505800"/>
                  </a:gdLst>
                  <a:ahLst/>
                  <a:rect l="textAreaLeft" t="textAreaTop" r="textAreaRight" b="textAreaBottom"/>
                  <a:pathLst>
                    <a:path w="21600" h="78474">
                      <a:moveTo>
                        <a:pt x="3600" y="0"/>
                      </a:moveTo>
                      <a:arcTo wR="3600" hR="3600" stAng="16200000" swAng="-5400000"/>
                      <a:lnTo>
                        <a:pt x="0" y="74874"/>
                      </a:lnTo>
                      <a:arcTo wR="3600" hR="3600" stAng="10800000" swAng="-5400000"/>
                      <a:lnTo>
                        <a:pt x="18000" y="7847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823000" y="2323440"/>
                  <a:ext cx="138960" cy="505800"/>
                </a:xfrm>
                <a:custGeom>
                  <a:avLst/>
                  <a:gdLst>
                    <a:gd name="textAreaLeft" fmla="*/ 6480 w 138960"/>
                    <a:gd name="textAreaRight" fmla="*/ 132480 w 138960"/>
                    <a:gd name="textAreaTop" fmla="*/ 6480 h 505800"/>
                    <a:gd name="textAreaBottom" fmla="*/ 499320 h 505800"/>
                  </a:gdLst>
                  <a:ahLst/>
                  <a:rect l="textAreaLeft" t="textAreaTop" r="textAreaRight" b="textAreaBottom"/>
                  <a:pathLst>
                    <a:path w="21600" h="78474">
                      <a:moveTo>
                        <a:pt x="3600" y="0"/>
                      </a:moveTo>
                      <a:arcTo wR="3600" hR="3600" stAng="16200000" swAng="-5400000"/>
                      <a:lnTo>
                        <a:pt x="0" y="74874"/>
                      </a:lnTo>
                      <a:arcTo wR="3600" hR="3600" stAng="10800000" swAng="-5400000"/>
                      <a:lnTo>
                        <a:pt x="18000" y="7847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493200">
                  <a:off x="5694120" y="1852920"/>
                  <a:ext cx="99000" cy="430920"/>
                </a:xfrm>
                <a:custGeom>
                  <a:avLst/>
                  <a:gdLst>
                    <a:gd name="textAreaLeft" fmla="*/ 4680 w 99000"/>
                    <a:gd name="textAreaRight" fmla="*/ 94320 w 99000"/>
                    <a:gd name="textAreaTop" fmla="*/ 4680 h 430920"/>
                    <a:gd name="textAreaBottom" fmla="*/ 426240 h 430920"/>
                  </a:gdLst>
                  <a:ahLst/>
                  <a:rect l="textAreaLeft" t="textAreaTop" r="textAreaRight" b="textAreaBottom"/>
                  <a:pathLst>
                    <a:path w="21600" h="93757">
                      <a:moveTo>
                        <a:pt x="3600" y="0"/>
                      </a:moveTo>
                      <a:arcTo wR="3600" hR="3600" stAng="16200000" swAng="-5400000"/>
                      <a:lnTo>
                        <a:pt x="0" y="90157"/>
                      </a:lnTo>
                      <a:arcTo wR="3600" hR="3600" stAng="10800000" swAng="-5400000"/>
                      <a:lnTo>
                        <a:pt x="18000" y="937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rot="21106800">
                  <a:off x="6190200" y="1852920"/>
                  <a:ext cx="99000" cy="430920"/>
                </a:xfrm>
                <a:custGeom>
                  <a:avLst/>
                  <a:gdLst>
                    <a:gd name="textAreaLeft" fmla="*/ 4680 w 99000"/>
                    <a:gd name="textAreaRight" fmla="*/ 94320 w 99000"/>
                    <a:gd name="textAreaTop" fmla="*/ 4680 h 430920"/>
                    <a:gd name="textAreaBottom" fmla="*/ 426240 h 430920"/>
                  </a:gdLst>
                  <a:ahLst/>
                  <a:rect l="textAreaLeft" t="textAreaTop" r="textAreaRight" b="textAreaBottom"/>
                  <a:pathLst>
                    <a:path w="21600" h="93757">
                      <a:moveTo>
                        <a:pt x="3600" y="0"/>
                      </a:moveTo>
                      <a:arcTo wR="3600" hR="3600" stAng="16200000" swAng="-5400000"/>
                      <a:lnTo>
                        <a:pt x="0" y="90157"/>
                      </a:lnTo>
                      <a:arcTo wR="3600" hR="3600" stAng="10800000" swAng="-5400000"/>
                      <a:lnTo>
                        <a:pt x="18000" y="937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3399"/>
                </a:solidFill>
                <a:ln w="9360">
                  <a:solidFill>
                    <a:srgbClr val="ff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2943000" y="1117440"/>
              <a:ext cx="6121440" cy="5435640"/>
              <a:chOff x="2943000" y="1117440"/>
              <a:chExt cx="6121440" cy="5435640"/>
            </a:xfrm>
          </p:grpSpPr>
          <p:sp>
            <p:nvSpPr>
              <p:cNvPr id="208" name=""/>
              <p:cNvSpPr/>
              <p:nvPr/>
            </p:nvSpPr>
            <p:spPr>
              <a:xfrm>
                <a:off x="2943000" y="1117440"/>
                <a:ext cx="6121440" cy="5435640"/>
              </a:xfrm>
              <a:prstGeom prst="triangle">
                <a:avLst>
                  <a:gd name="adj" fmla="val 50000"/>
                </a:avLst>
              </a:prstGeom>
              <a:noFill/>
              <a:ln w="5724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14320" y="5511960"/>
                <a:ext cx="499104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250880" y="4280040"/>
                <a:ext cx="351972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974840" y="2921040"/>
                <a:ext cx="2057400" cy="0"/>
              </a:xfrm>
              <a:prstGeom prst="line">
                <a:avLst/>
              </a:prstGeom>
              <a:ln w="28440">
                <a:solidFill>
                  <a:srgbClr val="66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oper Black"/>
              </a:rPr>
              <a:t>Symbiosis</a:t>
            </a:r>
            <a:endParaRPr b="0" lang="en-US" sz="6000" spc="-1" strike="noStrike">
              <a:solidFill>
                <a:srgbClr val="ffff00"/>
              </a:solidFill>
              <a:latin typeface="Cooper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22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relationship in which two species live closely together is called symbiosis (“living together”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774440" y="3984480"/>
            <a:ext cx="5429160" cy="24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tu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ensal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asit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00:17:36Z</dcterms:created>
  <dc:creator>Type your name here</dc:creator>
  <dc:description/>
  <dc:language>en-US</dc:language>
  <cp:lastModifiedBy>Clear Creek ISD</cp:lastModifiedBy>
  <cp:lastPrinted>2001-10-10T11:38:18Z</cp:lastPrinted>
  <dcterms:modified xsi:type="dcterms:W3CDTF">2009-09-22T16:04:52Z</dcterms:modified>
  <cp:revision>95</cp:revision>
  <dc:subject/>
  <dc:title>ECOLOGY STUDY GUIDE</dc:title>
</cp:coreProperties>
</file>